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3-му индикатору: на 3 и более несчастных случаев на производстве у работодателей, среднесписочная численность которых не превышает 50 человек, на 4 и более несчастных случаев на производстве у работодателей, среднесписочная численность которых не превышает 100 человек, на 5 и более несчастных случаев на производстве у работодателей, среднесписочная численность которых составляет 100 человек и более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ускаемся ниже по страниц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ложение:  Критерии отнесения объектов федерального государственного контроля (надзора)  за соблюдением трудовго законодательства, к определенной категории риска и Приложение к критериям  (перечень значения показателя потенциального риска) в зависимости от ОКВЭ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6BB5-377D-406A-A8F9-E1CC1B2C6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9158-4F32-43EC-B35A-E982A86A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576C-F2D0-45CC-9B8D-678F0593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0F02-D0A6-4A91-A8D7-9DEC74C02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EFB9-D089-4AC7-AD87-BDF1C2ADB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3D5C-F313-4F09-BA01-7088107E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2FE8-5C49-4B51-8C5C-0E6B8C46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1379-EEF8-416F-BD04-A830528C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D5FC-8EB5-4C46-82FA-22AA3412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CA4B-C736-41BC-8ADD-AA07CF11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36E0-F8F4-4DC5-9076-76100BBE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D32E-B35E-44EB-85DE-24A5A5BB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2B62-39FC-4287-9C38-71E76F28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E7D2-C631-4F0A-BFD2-7043DC79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54D2-EA83-4219-B4E1-D860C524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348A-1742-4232-8253-AADEA107A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2CEF-467A-489E-A73B-50D8DD6D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62315-BE29-47AC-AD72-1575C2CE1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2DD7D-1976-412B-8DFC-B9C345C5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4A5D8-CDEB-459F-BAB8-A312387A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57DCB-EE09-483C-B08E-682898ED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0820D-20DF-46B9-8434-7F32D3AF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E61B-1E54-4A5F-8772-C71ABCC8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BF648-7452-474A-99CB-ED715E2C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58DF2-88D8-41A8-B6B7-AFF0B59E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1F9DF-5AC0-4280-8B0A-C95E6691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FD588-FAF3-4D3E-93E7-53819478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81C6A-B393-4BFC-ABB8-F47FD604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A3BD1-D3B3-437B-AF8C-8D3280BE4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780FB-2006-446C-B2A5-D8B0F943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C924A-F034-45D1-8024-6B9C441CC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1CCA8-AEE5-42CF-88AD-6097BA46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5712E-79B4-48DE-B925-60773202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ED2D-B8DA-4B89-963C-A89B63FB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3F056-C741-48A6-816F-5F262A72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183F0-F8C5-45CC-9884-94BA3E1C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6B44C-D7A6-499A-9106-EABEBA1E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9E194-D9B4-4D6E-BA2C-0442524B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06D1D-3482-42D4-9FF6-C3D22DB5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FD974-5E57-42EB-9705-30BD4312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0A67D-B1B3-4AF7-9976-1E687A11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07FB2-5C46-4D31-87D9-1F7D6347A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050F6-6BF4-4E1C-ABE6-94D6D4C81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FC9AA-8DC6-4F34-BF0D-84114038F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7C6D-5BCE-421B-BFAF-FBC7B65F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97EB0-AFAD-49A4-B056-F7DC8930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DC95D-3E8A-448A-A8A2-F3209851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A5B3D-8A11-4066-B4F0-8F12535D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8506C-49D6-414F-89D1-08CE4CEB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45EF6-02A8-4F69-8791-1F33DC7C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A8D3C-5F27-4091-BCE5-D7A9CEEF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60582-719B-4C66-B821-BB43C6F6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5A973-74D8-4C8F-9373-D578D6E3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A272E-16E1-4BA0-8978-B181EA66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0A07B-A2C8-43F3-BC38-4544ECE35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EF47-6BCF-4718-BFD4-7C84725D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011A9-F6AD-4E72-9944-915C9E453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E24C-1EC1-4E15-B26F-CF9F808B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ADC1-05B7-4A2B-88E9-4EB66418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CFF9-84B7-4E74-A5AC-CAA74A9F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21A6A2F-C692-424C-AAE0-B47AF8B80A9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98EEB17-D353-4845-9DCF-00B3A3033AA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F980C66-64ED-4A55-893C-8F20A8FEAE8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ED4081D-EBF4-4C69-AFF2-815F3460064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7EBECDA-7323-4966-A8E3-BF7022107B7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s://git63.rostrud.gov.ru/inf/330313.html" TargetMode="External"/><Relationship Id="rId2" Type="http://schemas.openxmlformats.org/officeDocument/2006/relationships/hyperlink" Target="mailto:pavlovalv@git63.rostrud.gov.ru" TargetMode="External"/><Relationship Id="rId3" Type="http://schemas.openxmlformats.org/officeDocument/2006/relationships/hyperlink" Target="mailto:git63@rostrud.ru" TargetMode="External"/><Relationship Id="rId4" Type="http://schemas.openxmlformats.org/officeDocument/2006/relationships/hyperlink" Target="https://git63.rostrud.gov.ru/inf/330313.html" TargetMode="External"/><Relationship Id="rId5" Type="http://schemas.openxmlformats.org/officeDocument/2006/relationships/hyperlink" Target="mailto:git63@rostrud.ru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1294920" y="3200040"/>
            <a:ext cx="6589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696464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178920" y="1196640"/>
            <a:ext cx="8867880" cy="20876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зменения в законодательстве по охране труда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собенности осуществления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осударственного контроля (надзора)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недрение риск – ориентированного подхода. 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4" name="Рисунок 10" descr="При формировании системы управления охраной труда работодатели могут опираться на типовое положение о ней"/>
          <p:cNvPicPr/>
          <p:nvPr/>
        </p:nvPicPr>
        <p:blipFill>
          <a:blip r:embed="rId1"/>
          <a:stretch/>
        </p:blipFill>
        <p:spPr>
          <a:xfrm>
            <a:off x="2548080" y="3060720"/>
            <a:ext cx="390204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353440" cy="1152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ИНДИКАТОРЫ РИСКА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нарушения обязательных требований (утверждены приказом Минтруда России  от 30.11.2021 № 838н)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39280" y="1267920"/>
            <a:ext cx="814716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принятие судом заявления о признании банкротом работодателя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, среднесписочная численность работников которого равняется или превышает 50 работников, в том числе работающих по совместительству;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проведение два и более раза в течение шести месяцев одним лицом и (или) одним средством измерения, измерений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 целях специальной оценки условий труда (СОУТ) у контролируемого лица и иного лица, находящегося в другом субъекте Российской Федерации, в течение суток;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увеличение количества несчастных случаев на производстве с легкими последствиями,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произошедших в квартале текущего года, по отношению к аналогичному периоду предыдущего года;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отсутствие во ФГИС СОУТ результатов проведения СОУТ информации о результатах проведения СОУТ у ЮЛ или ИП,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сведения о котором внесены в ЕГРЮЛ /ЕГРИП более 12 месяцев назад, при условии, что указанное ЮЛ/ИП представляет информацию о 50 и более застрахованных лицах, или наличие во ФГИС СОУТ информации о результатах проведения СОУТ у ЮЛ/ИП более пяти лет назад при наличии рабочих мест с вредными или опасными условиями труда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тегории риска в зависимости от показателя потенциального риска причинения вреда (Р)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6" name="Прямоугольник 5"/>
          <p:cNvSpPr/>
          <p:nvPr/>
        </p:nvSpPr>
        <p:spPr>
          <a:xfrm>
            <a:off x="3203640" y="5084640"/>
            <a:ext cx="3097080" cy="648000"/>
          </a:xfrm>
          <a:prstGeom prst="rect">
            <a:avLst/>
          </a:prstGeom>
          <a:solidFill>
            <a:srgbClr val="00b05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Низ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Прямоугольник 6"/>
          <p:cNvSpPr/>
          <p:nvPr/>
        </p:nvSpPr>
        <p:spPr>
          <a:xfrm>
            <a:off x="3203640" y="4292640"/>
            <a:ext cx="3097080" cy="649080"/>
          </a:xfrm>
          <a:prstGeom prst="rect">
            <a:avLst/>
          </a:prstGeom>
          <a:solidFill>
            <a:srgbClr val="92d05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Умерен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7"/>
          <p:cNvSpPr/>
          <p:nvPr/>
        </p:nvSpPr>
        <p:spPr>
          <a:xfrm>
            <a:off x="3203640" y="3500280"/>
            <a:ext cx="3097080" cy="649440"/>
          </a:xfrm>
          <a:prstGeom prst="rect">
            <a:avLst/>
          </a:prstGeom>
          <a:solidFill>
            <a:srgbClr val="ffc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Сред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8"/>
          <p:cNvSpPr/>
          <p:nvPr/>
        </p:nvSpPr>
        <p:spPr>
          <a:xfrm>
            <a:off x="3203640" y="2708280"/>
            <a:ext cx="3097080" cy="649440"/>
          </a:xfrm>
          <a:prstGeom prst="rect">
            <a:avLst/>
          </a:prstGeom>
          <a:solidFill>
            <a:srgbClr val="c7bba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Значите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Прямоугольник 9"/>
          <p:cNvSpPr/>
          <p:nvPr/>
        </p:nvSpPr>
        <p:spPr>
          <a:xfrm>
            <a:off x="3203640" y="1916280"/>
            <a:ext cx="3097080" cy="649080"/>
          </a:xfrm>
          <a:prstGeom prst="rect">
            <a:avLst/>
          </a:prstGeom>
          <a:solidFill>
            <a:srgbClr val="9b2d1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Высо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1" name="Прямая со стрелкой 13"/>
          <p:cNvCxnSpPr/>
          <p:nvPr/>
        </p:nvCxnSpPr>
        <p:spPr>
          <a:xfrm flipV="1">
            <a:off x="2987280" y="1557360"/>
            <a:ext cx="1080" cy="4248360"/>
          </a:xfrm>
          <a:prstGeom prst="straightConnector1">
            <a:avLst/>
          </a:prstGeom>
          <a:ln w="57240">
            <a:solidFill>
              <a:srgbClr val="801e11"/>
            </a:solidFill>
            <a:miter/>
            <a:tailEnd len="med" type="arrow" w="med"/>
          </a:ln>
        </p:spPr>
      </p:cxnSp>
      <p:sp>
        <p:nvSpPr>
          <p:cNvPr id="262" name="Прямая соединительная линия 16"/>
          <p:cNvSpPr/>
          <p:nvPr/>
        </p:nvSpPr>
        <p:spPr>
          <a:xfrm>
            <a:off x="2843280" y="5805360"/>
            <a:ext cx="288720" cy="0"/>
          </a:xfrm>
          <a:prstGeom prst="line">
            <a:avLst/>
          </a:prstGeom>
          <a:ln w="57240">
            <a:solidFill>
              <a:srgbClr val="801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Прямая соединительная линия 19"/>
          <p:cNvSpPr/>
          <p:nvPr/>
        </p:nvSpPr>
        <p:spPr>
          <a:xfrm>
            <a:off x="2843280" y="5013360"/>
            <a:ext cx="288720" cy="0"/>
          </a:xfrm>
          <a:prstGeom prst="line">
            <a:avLst/>
          </a:prstGeom>
          <a:ln w="57240">
            <a:solidFill>
              <a:srgbClr val="801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рямая соединительная линия 20"/>
          <p:cNvSpPr/>
          <p:nvPr/>
        </p:nvSpPr>
        <p:spPr>
          <a:xfrm>
            <a:off x="2843280" y="4221000"/>
            <a:ext cx="288720" cy="0"/>
          </a:xfrm>
          <a:prstGeom prst="line">
            <a:avLst/>
          </a:prstGeom>
          <a:ln w="57240">
            <a:solidFill>
              <a:srgbClr val="801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Прямая соединительная линия 21"/>
          <p:cNvSpPr/>
          <p:nvPr/>
        </p:nvSpPr>
        <p:spPr>
          <a:xfrm>
            <a:off x="2843280" y="3429000"/>
            <a:ext cx="288720" cy="0"/>
          </a:xfrm>
          <a:prstGeom prst="line">
            <a:avLst/>
          </a:prstGeom>
          <a:ln w="57240">
            <a:solidFill>
              <a:srgbClr val="801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Прямая соединительная линия 22"/>
          <p:cNvSpPr/>
          <p:nvPr/>
        </p:nvSpPr>
        <p:spPr>
          <a:xfrm>
            <a:off x="2843280" y="2637000"/>
            <a:ext cx="288720" cy="0"/>
          </a:xfrm>
          <a:prstGeom prst="line">
            <a:avLst/>
          </a:prstGeom>
          <a:ln w="57240">
            <a:solidFill>
              <a:srgbClr val="801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Box 23"/>
          <p:cNvSpPr/>
          <p:nvPr/>
        </p:nvSpPr>
        <p:spPr>
          <a:xfrm>
            <a:off x="255600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463e2c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24"/>
          <p:cNvSpPr/>
          <p:nvPr/>
        </p:nvSpPr>
        <p:spPr>
          <a:xfrm>
            <a:off x="2195640" y="4797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463e2c"/>
                </a:solidFill>
                <a:latin typeface="Arial"/>
              </a:rPr>
              <a:t>0,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Box 25"/>
          <p:cNvSpPr/>
          <p:nvPr/>
        </p:nvSpPr>
        <p:spPr>
          <a:xfrm>
            <a:off x="2340000" y="40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463e2c"/>
                </a:solidFill>
                <a:latin typeface="Arial"/>
              </a:rPr>
              <a:t>0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Box 26"/>
          <p:cNvSpPr/>
          <p:nvPr/>
        </p:nvSpPr>
        <p:spPr>
          <a:xfrm>
            <a:off x="2195640" y="3213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463e2c"/>
                </a:solidFill>
                <a:latin typeface="Arial"/>
              </a:rPr>
              <a:t>0,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Box 27"/>
          <p:cNvSpPr/>
          <p:nvPr/>
        </p:nvSpPr>
        <p:spPr>
          <a:xfrm>
            <a:off x="255600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463e2c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Georgia"/>
                <a:ea typeface="Times New Roman"/>
              </a:rPr>
              <a:t>Периодичность проведения плановых проверок хозяйствующих субъектов в зависимости от категории риска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cxnSp>
        <p:nvCxnSpPr>
          <p:cNvPr id="273" name="Прямая со стрелкой 4"/>
          <p:cNvCxnSpPr/>
          <p:nvPr/>
        </p:nvCxnSpPr>
        <p:spPr>
          <a:xfrm flipV="1">
            <a:off x="611280" y="1772640"/>
            <a:ext cx="7633440" cy="3888360"/>
          </a:xfrm>
          <a:prstGeom prst="straightConnector1">
            <a:avLst/>
          </a:prstGeom>
          <a:ln w="57240">
            <a:solidFill>
              <a:srgbClr val="801e11"/>
            </a:solidFill>
            <a:miter/>
            <a:tailEnd len="med" type="arrow" w="med"/>
          </a:ln>
        </p:spPr>
      </p:cxnSp>
      <p:sp>
        <p:nvSpPr>
          <p:cNvPr id="274" name="TextBox 5"/>
          <p:cNvSpPr/>
          <p:nvPr/>
        </p:nvSpPr>
        <p:spPr>
          <a:xfrm>
            <a:off x="826920" y="55897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зкий рис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Блок-схема: узел 6"/>
          <p:cNvSpPr/>
          <p:nvPr/>
        </p:nvSpPr>
        <p:spPr>
          <a:xfrm>
            <a:off x="611280" y="5516640"/>
            <a:ext cx="215640" cy="216000"/>
          </a:xfrm>
          <a:prstGeom prst="flowChartConnector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Блок-схема: узел 7"/>
          <p:cNvSpPr/>
          <p:nvPr/>
        </p:nvSpPr>
        <p:spPr>
          <a:xfrm>
            <a:off x="2556000" y="4508640"/>
            <a:ext cx="215640" cy="215640"/>
          </a:xfrm>
          <a:prstGeom prst="flowChartConnector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Блок-схема: узел 8"/>
          <p:cNvSpPr/>
          <p:nvPr/>
        </p:nvSpPr>
        <p:spPr>
          <a:xfrm>
            <a:off x="4284720" y="3645000"/>
            <a:ext cx="216000" cy="215640"/>
          </a:xfrm>
          <a:prstGeom prst="flowChartConnector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Блок-схема: узел 9"/>
          <p:cNvSpPr/>
          <p:nvPr/>
        </p:nvSpPr>
        <p:spPr>
          <a:xfrm>
            <a:off x="5940360" y="2781360"/>
            <a:ext cx="216000" cy="216000"/>
          </a:xfrm>
          <a:prstGeom prst="flowChartConnector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Блок-схема: узел 10"/>
          <p:cNvSpPr/>
          <p:nvPr/>
        </p:nvSpPr>
        <p:spPr>
          <a:xfrm>
            <a:off x="7740720" y="1844640"/>
            <a:ext cx="216000" cy="216000"/>
          </a:xfrm>
          <a:prstGeom prst="flowChartConnector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Box 12"/>
          <p:cNvSpPr/>
          <p:nvPr/>
        </p:nvSpPr>
        <p:spPr>
          <a:xfrm>
            <a:off x="2556000" y="4797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ренный рис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Box 13"/>
          <p:cNvSpPr/>
          <p:nvPr/>
        </p:nvSpPr>
        <p:spPr>
          <a:xfrm>
            <a:off x="4140360" y="3933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ий рис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Box 14"/>
          <p:cNvSpPr/>
          <p:nvPr/>
        </p:nvSpPr>
        <p:spPr>
          <a:xfrm>
            <a:off x="5796000" y="3068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ый рис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Box 15"/>
          <p:cNvSpPr/>
          <p:nvPr/>
        </p:nvSpPr>
        <p:spPr>
          <a:xfrm>
            <a:off x="7451640" y="213372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кий рис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16"/>
          <p:cNvSpPr/>
          <p:nvPr/>
        </p:nvSpPr>
        <p:spPr>
          <a:xfrm rot="19902600">
            <a:off x="-114840" y="4846680"/>
            <a:ext cx="21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mbria"/>
              </a:rPr>
              <a:t>Плановые проверки не проводятс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17"/>
          <p:cNvSpPr/>
          <p:nvPr/>
        </p:nvSpPr>
        <p:spPr>
          <a:xfrm rot="19902600">
            <a:off x="3459240" y="3193560"/>
            <a:ext cx="14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mbria"/>
              </a:rPr>
              <a:t>1 раз в 5 л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18"/>
          <p:cNvSpPr/>
          <p:nvPr/>
        </p:nvSpPr>
        <p:spPr>
          <a:xfrm rot="19902600">
            <a:off x="1874160" y="4057200"/>
            <a:ext cx="14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mbria"/>
              </a:rPr>
              <a:t>1 раз в 6 л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19"/>
          <p:cNvSpPr/>
          <p:nvPr/>
        </p:nvSpPr>
        <p:spPr>
          <a:xfrm rot="19902600">
            <a:off x="5207040" y="2385720"/>
            <a:ext cx="144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mbria"/>
              </a:rPr>
              <a:t>1 раз в 3 го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Box 20"/>
          <p:cNvSpPr/>
          <p:nvPr/>
        </p:nvSpPr>
        <p:spPr>
          <a:xfrm rot="19902600">
            <a:off x="6930720" y="1463400"/>
            <a:ext cx="150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mbria"/>
              </a:rPr>
              <a:t>1 раз в 2 го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07520" cy="1297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Показатель потенциального риска причинения вреда охраняемым законом ценностям в сфере труда </a:t>
            </a:r>
            <a:r>
              <a:rPr b="1" lang="ru-RU" sz="2800" spc="-1" strike="noStrike">
                <a:solidFill>
                  <a:srgbClr val="696464"/>
                </a:solidFill>
                <a:latin typeface="Calibri"/>
                <a:ea typeface="Times New Roman"/>
              </a:rPr>
              <a:t>зависит: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0" name="Скругленный прямоугольник 4"/>
          <p:cNvSpPr/>
          <p:nvPr/>
        </p:nvSpPr>
        <p:spPr>
          <a:xfrm>
            <a:off x="324000" y="1413000"/>
            <a:ext cx="8424720" cy="180000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тяжести потенциальных негативных последствий возможного несоблюдения хозяйствующим субъектом обязательных требований </a:t>
            </a: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вид  экономической деятельности)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от масштаба распространения потенциальных негативных последствий в случае причинения вреда охраняемым законом ценностям в сфере труда </a:t>
            </a: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численность хозяйствующего субъект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Скругленный прямоугольник 5"/>
          <p:cNvSpPr/>
          <p:nvPr/>
        </p:nvSpPr>
        <p:spPr>
          <a:xfrm>
            <a:off x="468360" y="3357720"/>
            <a:ext cx="8280360" cy="93492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коэффициента устойчивости добросовестного поведения хозяйствующих субъектов, связанного с исполнением обязательных требова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Прямоугольник 6"/>
          <p:cNvSpPr/>
          <p:nvPr/>
        </p:nvSpPr>
        <p:spPr>
          <a:xfrm>
            <a:off x="539640" y="4724280"/>
            <a:ext cx="2625840" cy="1944720"/>
          </a:xfrm>
          <a:prstGeom prst="rect">
            <a:avLst/>
          </a:prstGeom>
          <a:solidFill>
            <a:srgbClr val="918485"/>
          </a:solidFill>
          <a:ln w="12600">
            <a:solidFill>
              <a:srgbClr val="695f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наличие производственного травматиз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Прямоугольник 7"/>
          <p:cNvSpPr/>
          <p:nvPr/>
        </p:nvSpPr>
        <p:spPr>
          <a:xfrm>
            <a:off x="3492360" y="4724280"/>
            <a:ext cx="2519640" cy="1944720"/>
          </a:xfrm>
          <a:prstGeom prst="rect">
            <a:avLst/>
          </a:prstGeom>
          <a:solidFill>
            <a:srgbClr val="918485"/>
          </a:solidFill>
          <a:ln w="12600">
            <a:solidFill>
              <a:srgbClr val="695f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наличие задолженнос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по заработной пла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Прямоугольник 8"/>
          <p:cNvSpPr/>
          <p:nvPr/>
        </p:nvSpPr>
        <p:spPr>
          <a:xfrm>
            <a:off x="6300720" y="4724280"/>
            <a:ext cx="2519280" cy="1944720"/>
          </a:xfrm>
          <a:prstGeom prst="rect">
            <a:avLst/>
          </a:prstGeom>
          <a:solidFill>
            <a:srgbClr val="918485"/>
          </a:solidFill>
          <a:ln w="12600">
            <a:solidFill>
              <a:srgbClr val="695f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наличие административных наказани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за нарушение трудового законодатель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Прямая соединительная линия 10"/>
          <p:cNvSpPr/>
          <p:nvPr/>
        </p:nvSpPr>
        <p:spPr>
          <a:xfrm>
            <a:off x="1835280" y="4365720"/>
            <a:ext cx="17280" cy="35856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Прямая соединительная линия 12"/>
          <p:cNvSpPr/>
          <p:nvPr/>
        </p:nvSpPr>
        <p:spPr>
          <a:xfrm>
            <a:off x="4859280" y="4365720"/>
            <a:ext cx="0" cy="35856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Стрелка вниз 13"/>
          <p:cNvSpPr/>
          <p:nvPr/>
        </p:nvSpPr>
        <p:spPr>
          <a:xfrm>
            <a:off x="1258920" y="4365720"/>
            <a:ext cx="649080" cy="647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Стрелка вниз 14"/>
          <p:cNvSpPr/>
          <p:nvPr/>
        </p:nvSpPr>
        <p:spPr>
          <a:xfrm>
            <a:off x="4500720" y="4365720"/>
            <a:ext cx="555480" cy="64764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Стрелка вниз 15"/>
          <p:cNvSpPr/>
          <p:nvPr/>
        </p:nvSpPr>
        <p:spPr>
          <a:xfrm>
            <a:off x="7451640" y="4365720"/>
            <a:ext cx="576360" cy="64764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04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азовая модель расчета категории риска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108000" y="1125360"/>
            <a:ext cx="88963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Franklin Gothic Book"/>
              </a:rPr>
              <a:t>https://rostrud.gov.ru/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611280" y="1547640"/>
            <a:ext cx="813744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Franklin Gothic Book"/>
              </a:rPr>
              <a:t>https://rostrud.gov.ru/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914400" y="1547640"/>
            <a:ext cx="777240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Franklin Gothic Book"/>
              </a:rPr>
              <a:t>https://rostrud.gov.ru/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6407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Определение подконтрольным субъектом присвоенной ему категории риска с помощью электронного сервиса («онлайн калькулятор категории риска»)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49636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Перечень работодателей, деятельность которых отнесена к категории риска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497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498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ФЕДЕРАЛЬНЫЙ ЗАКОН  от 31.07.2020 № 247-ФЗ</a:t>
            </a:r>
            <a:br>
              <a:rPr sz="2800"/>
            </a:b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« ОБ ОБЯЗАТЕЛЬНЫХ ТРЕБОВАНИЯХ  </a:t>
            </a:r>
            <a:br>
              <a:rPr sz="2800"/>
            </a:b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В РОССИЙСКОЙ ФЕДЕРАЦИИ»  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00000" y="1988640"/>
            <a:ext cx="77724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ступил в силу </a:t>
            </a: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с 1 ноября 2020 года: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Статья 3: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оложения нормативных правовых актов, устанавливающих обязательные требования, должны вступать в силу либо </a:t>
            </a: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с 1 марта, либо с 1 сентября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соответствующего года, но не ранее чем по истечении девяноста дней после дня официального опубликования соответствующего нормативного правового акта;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Часть 5 статьи 8: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еречень нормативных правовых актов (их отдельных положений), содержащих обязательные требования, оценка соблюдения которых осуществляется в рамках государственного контроля (надзора), привлечения к административной ответственности, предоставления лицензий и иных разрешений, аккредитации, </a:t>
            </a: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подлежит размещению на официальных сайтах органов государственной власти, осуществляющих государственный контроль (надзор)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08720" cy="1655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нижение категории риска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озможно на основании заявления   работодателя до следующей категории риска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не чаще, чем один раз в год  при отсутствии: 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14400" y="220500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ев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мертельного травматизма за 3 года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шествующих текущему году;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ев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яжелого травматизма за год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шествующий текущему году;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в наличия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выплаченной в установленный срок заработной платы за год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шествующий  текущему году;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упивших в законную силу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тановлений по делу об административных правонарушениях, предусмотренных ч. ч. 1, 3, 4 и 6 ст. 5.27 и ч. ч. 1-4 ст. 5.27.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АП РФ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несенных за год, предшествующий текущему году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         </a:t>
            </a: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«ОНЛАЙНИНСПЕКЦИЯ.РФ.»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17" name="Рисунок 3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704360" cy="4968720"/>
          </a:xfrm>
          <a:prstGeom prst="rect">
            <a:avLst/>
          </a:prstGeom>
          <a:ln w="0">
            <a:noFill/>
          </a:ln>
        </p:spPr>
      </p:pic>
      <p:sp>
        <p:nvSpPr>
          <p:cNvPr id="318" name="Полилиния 7"/>
          <p:cNvSpPr/>
          <p:nvPr/>
        </p:nvSpPr>
        <p:spPr>
          <a:xfrm>
            <a:off x="5300640" y="4676760"/>
            <a:ext cx="2824200" cy="1684440"/>
          </a:xfrm>
          <a:custGeom>
            <a:avLst/>
            <a:gdLst/>
            <a:ahLst/>
            <a:rect l="l" t="t" r="r" b="b"/>
            <a:pathLst>
              <a:path w="2823993" h="1684062">
                <a:moveTo>
                  <a:pt x="1581347" y="23558"/>
                </a:moveTo>
                <a:lnTo>
                  <a:pt x="1581347" y="23558"/>
                </a:lnTo>
                <a:cubicBezTo>
                  <a:pt x="1794337" y="28291"/>
                  <a:pt x="1981108" y="7381"/>
                  <a:pt x="2179224" y="47004"/>
                </a:cubicBezTo>
                <a:cubicBezTo>
                  <a:pt x="2195023" y="50164"/>
                  <a:pt x="2210485" y="54819"/>
                  <a:pt x="2226116" y="58727"/>
                </a:cubicBezTo>
                <a:cubicBezTo>
                  <a:pt x="2326914" y="125924"/>
                  <a:pt x="2199378" y="45358"/>
                  <a:pt x="2296455" y="93896"/>
                </a:cubicBezTo>
                <a:cubicBezTo>
                  <a:pt x="2309057" y="100197"/>
                  <a:pt x="2318674" y="111792"/>
                  <a:pt x="2331624" y="117342"/>
                </a:cubicBezTo>
                <a:cubicBezTo>
                  <a:pt x="2346433" y="123689"/>
                  <a:pt x="2363024" y="124640"/>
                  <a:pt x="2378516" y="129066"/>
                </a:cubicBezTo>
                <a:cubicBezTo>
                  <a:pt x="2390398" y="132461"/>
                  <a:pt x="2401963" y="136881"/>
                  <a:pt x="2413686" y="140789"/>
                </a:cubicBezTo>
                <a:cubicBezTo>
                  <a:pt x="2429317" y="152512"/>
                  <a:pt x="2446055" y="162888"/>
                  <a:pt x="2460578" y="175958"/>
                </a:cubicBezTo>
                <a:cubicBezTo>
                  <a:pt x="2485224" y="198139"/>
                  <a:pt x="2498748" y="238254"/>
                  <a:pt x="2530916" y="246296"/>
                </a:cubicBezTo>
                <a:lnTo>
                  <a:pt x="2577809" y="258019"/>
                </a:lnTo>
                <a:cubicBezTo>
                  <a:pt x="2596366" y="285855"/>
                  <a:pt x="2614610" y="314631"/>
                  <a:pt x="2636424" y="340081"/>
                </a:cubicBezTo>
                <a:cubicBezTo>
                  <a:pt x="2647213" y="352669"/>
                  <a:pt x="2660979" y="362514"/>
                  <a:pt x="2671593" y="375250"/>
                </a:cubicBezTo>
                <a:cubicBezTo>
                  <a:pt x="2720440" y="433866"/>
                  <a:pt x="2665731" y="390880"/>
                  <a:pt x="2730209" y="433866"/>
                </a:cubicBezTo>
                <a:cubicBezTo>
                  <a:pt x="2734117" y="449497"/>
                  <a:pt x="2735585" y="465949"/>
                  <a:pt x="2741932" y="480758"/>
                </a:cubicBezTo>
                <a:cubicBezTo>
                  <a:pt x="2781947" y="574125"/>
                  <a:pt x="2752403" y="460535"/>
                  <a:pt x="2777101" y="551096"/>
                </a:cubicBezTo>
                <a:cubicBezTo>
                  <a:pt x="2785580" y="582184"/>
                  <a:pt x="2792732" y="613619"/>
                  <a:pt x="2800547" y="644881"/>
                </a:cubicBezTo>
                <a:cubicBezTo>
                  <a:pt x="2804455" y="660512"/>
                  <a:pt x="2809110" y="675974"/>
                  <a:pt x="2812270" y="691773"/>
                </a:cubicBezTo>
                <a:lnTo>
                  <a:pt x="2823993" y="750389"/>
                </a:lnTo>
                <a:cubicBezTo>
                  <a:pt x="2816178" y="871527"/>
                  <a:pt x="2817714" y="993634"/>
                  <a:pt x="2800547" y="1113804"/>
                </a:cubicBezTo>
                <a:cubicBezTo>
                  <a:pt x="2797784" y="1133146"/>
                  <a:pt x="2776734" y="1144797"/>
                  <a:pt x="2765378" y="1160696"/>
                </a:cubicBezTo>
                <a:cubicBezTo>
                  <a:pt x="2742154" y="1193211"/>
                  <a:pt x="2708090" y="1257080"/>
                  <a:pt x="2671593" y="1266204"/>
                </a:cubicBezTo>
                <a:cubicBezTo>
                  <a:pt x="2655962" y="1270112"/>
                  <a:pt x="2639660" y="1271943"/>
                  <a:pt x="2624701" y="1277927"/>
                </a:cubicBezTo>
                <a:cubicBezTo>
                  <a:pt x="2548355" y="1308465"/>
                  <a:pt x="2555538" y="1317080"/>
                  <a:pt x="2484024" y="1359989"/>
                </a:cubicBezTo>
                <a:cubicBezTo>
                  <a:pt x="2469039" y="1368980"/>
                  <a:pt x="2453711" y="1377909"/>
                  <a:pt x="2437132" y="1383435"/>
                </a:cubicBezTo>
                <a:cubicBezTo>
                  <a:pt x="2227253" y="1453394"/>
                  <a:pt x="2483712" y="1354244"/>
                  <a:pt x="2343347" y="1406881"/>
                </a:cubicBezTo>
                <a:cubicBezTo>
                  <a:pt x="2323643" y="1414270"/>
                  <a:pt x="2303554" y="1420916"/>
                  <a:pt x="2284732" y="1430327"/>
                </a:cubicBezTo>
                <a:cubicBezTo>
                  <a:pt x="2272130" y="1436628"/>
                  <a:pt x="2263156" y="1450066"/>
                  <a:pt x="2249563" y="1453773"/>
                </a:cubicBezTo>
                <a:cubicBezTo>
                  <a:pt x="2219168" y="1462062"/>
                  <a:pt x="2187040" y="1461588"/>
                  <a:pt x="2155778" y="1465496"/>
                </a:cubicBezTo>
                <a:lnTo>
                  <a:pt x="2108886" y="1477219"/>
                </a:lnTo>
                <a:cubicBezTo>
                  <a:pt x="2073781" y="1485320"/>
                  <a:pt x="2037812" y="1490071"/>
                  <a:pt x="2003378" y="1500666"/>
                </a:cubicBezTo>
                <a:cubicBezTo>
                  <a:pt x="1942405" y="1519427"/>
                  <a:pt x="1967002" y="1534596"/>
                  <a:pt x="1897870" y="1547558"/>
                </a:cubicBezTo>
                <a:cubicBezTo>
                  <a:pt x="1855447" y="1555512"/>
                  <a:pt x="1811782" y="1554238"/>
                  <a:pt x="1768916" y="1559281"/>
                </a:cubicBezTo>
                <a:cubicBezTo>
                  <a:pt x="1682474" y="1569451"/>
                  <a:pt x="1682982" y="1579931"/>
                  <a:pt x="1581347" y="1594450"/>
                </a:cubicBezTo>
                <a:cubicBezTo>
                  <a:pt x="1519879" y="1603231"/>
                  <a:pt x="1488584" y="1607053"/>
                  <a:pt x="1428947" y="1617896"/>
                </a:cubicBezTo>
                <a:cubicBezTo>
                  <a:pt x="1409343" y="1621460"/>
                  <a:pt x="1389870" y="1625711"/>
                  <a:pt x="1370332" y="1629619"/>
                </a:cubicBezTo>
                <a:cubicBezTo>
                  <a:pt x="607092" y="1605389"/>
                  <a:pt x="865446" y="1684062"/>
                  <a:pt x="561439" y="1582727"/>
                </a:cubicBezTo>
                <a:cubicBezTo>
                  <a:pt x="549716" y="1578819"/>
                  <a:pt x="537323" y="1576530"/>
                  <a:pt x="526270" y="1571004"/>
                </a:cubicBezTo>
                <a:lnTo>
                  <a:pt x="479378" y="1547558"/>
                </a:lnTo>
                <a:cubicBezTo>
                  <a:pt x="467655" y="1531927"/>
                  <a:pt x="456717" y="1515676"/>
                  <a:pt x="444209" y="1500666"/>
                </a:cubicBezTo>
                <a:cubicBezTo>
                  <a:pt x="437133" y="1492175"/>
                  <a:pt x="426894" y="1486415"/>
                  <a:pt x="420763" y="1477219"/>
                </a:cubicBezTo>
                <a:cubicBezTo>
                  <a:pt x="411069" y="1462678"/>
                  <a:pt x="406475" y="1445210"/>
                  <a:pt x="397316" y="1430327"/>
                </a:cubicBezTo>
                <a:cubicBezTo>
                  <a:pt x="375163" y="1394329"/>
                  <a:pt x="326978" y="1324819"/>
                  <a:pt x="326978" y="1324819"/>
                </a:cubicBezTo>
                <a:cubicBezTo>
                  <a:pt x="268833" y="1092240"/>
                  <a:pt x="341032" y="1329479"/>
                  <a:pt x="268363" y="1184142"/>
                </a:cubicBezTo>
                <a:cubicBezTo>
                  <a:pt x="257310" y="1162037"/>
                  <a:pt x="250910" y="1137780"/>
                  <a:pt x="244916" y="1113804"/>
                </a:cubicBezTo>
                <a:cubicBezTo>
                  <a:pt x="241008" y="1098173"/>
                  <a:pt x="240398" y="1081323"/>
                  <a:pt x="233193" y="1066912"/>
                </a:cubicBezTo>
                <a:cubicBezTo>
                  <a:pt x="220591" y="1041708"/>
                  <a:pt x="201429" y="1020346"/>
                  <a:pt x="186301" y="996573"/>
                </a:cubicBezTo>
                <a:cubicBezTo>
                  <a:pt x="174068" y="977350"/>
                  <a:pt x="161322" y="958338"/>
                  <a:pt x="151132" y="937958"/>
                </a:cubicBezTo>
                <a:cubicBezTo>
                  <a:pt x="109806" y="855305"/>
                  <a:pt x="149802" y="901457"/>
                  <a:pt x="104239" y="855896"/>
                </a:cubicBezTo>
                <a:cubicBezTo>
                  <a:pt x="96424" y="836358"/>
                  <a:pt x="90870" y="815755"/>
                  <a:pt x="80793" y="797281"/>
                </a:cubicBezTo>
                <a:cubicBezTo>
                  <a:pt x="67300" y="772543"/>
                  <a:pt x="42812" y="753675"/>
                  <a:pt x="33901" y="726942"/>
                </a:cubicBezTo>
                <a:cubicBezTo>
                  <a:pt x="17083" y="676488"/>
                  <a:pt x="25175" y="703761"/>
                  <a:pt x="10455" y="644881"/>
                </a:cubicBezTo>
                <a:cubicBezTo>
                  <a:pt x="10715" y="639417"/>
                  <a:pt x="0" y="396793"/>
                  <a:pt x="45624" y="328358"/>
                </a:cubicBezTo>
                <a:lnTo>
                  <a:pt x="69070" y="293189"/>
                </a:lnTo>
                <a:cubicBezTo>
                  <a:pt x="72978" y="281466"/>
                  <a:pt x="74792" y="268821"/>
                  <a:pt x="80793" y="258019"/>
                </a:cubicBezTo>
                <a:cubicBezTo>
                  <a:pt x="119453" y="188432"/>
                  <a:pt x="107570" y="191754"/>
                  <a:pt x="162855" y="175958"/>
                </a:cubicBezTo>
                <a:cubicBezTo>
                  <a:pt x="178347" y="171532"/>
                  <a:pt x="194116" y="168143"/>
                  <a:pt x="209747" y="164235"/>
                </a:cubicBezTo>
                <a:cubicBezTo>
                  <a:pt x="276559" y="97423"/>
                  <a:pt x="209153" y="152767"/>
                  <a:pt x="291809" y="117342"/>
                </a:cubicBezTo>
                <a:cubicBezTo>
                  <a:pt x="421802" y="61630"/>
                  <a:pt x="123392" y="83635"/>
                  <a:pt x="514547" y="70450"/>
                </a:cubicBezTo>
                <a:cubicBezTo>
                  <a:pt x="799673" y="60839"/>
                  <a:pt x="1085070" y="62635"/>
                  <a:pt x="1370332" y="58727"/>
                </a:cubicBezTo>
                <a:cubicBezTo>
                  <a:pt x="1446042" y="46109"/>
                  <a:pt x="1472146" y="40181"/>
                  <a:pt x="1557901" y="35281"/>
                </a:cubicBezTo>
                <a:cubicBezTo>
                  <a:pt x="1655512" y="29703"/>
                  <a:pt x="1753286" y="27466"/>
                  <a:pt x="1850978" y="23558"/>
                </a:cubicBezTo>
                <a:cubicBezTo>
                  <a:pt x="1984029" y="6927"/>
                  <a:pt x="1994739" y="0"/>
                  <a:pt x="2167501" y="23558"/>
                </a:cubicBezTo>
                <a:cubicBezTo>
                  <a:pt x="2181461" y="25462"/>
                  <a:pt x="2190068" y="40703"/>
                  <a:pt x="2202670" y="47004"/>
                </a:cubicBezTo>
                <a:cubicBezTo>
                  <a:pt x="2213723" y="52530"/>
                  <a:pt x="2226116" y="54819"/>
                  <a:pt x="2237839" y="58727"/>
                </a:cubicBezTo>
                <a:cubicBezTo>
                  <a:pt x="2275102" y="95988"/>
                  <a:pt x="2250233" y="82173"/>
                  <a:pt x="2319901" y="82173"/>
                </a:cubicBezTo>
                <a:lnTo>
                  <a:pt x="2319901" y="82173"/>
                </a:lnTo>
                <a:lnTo>
                  <a:pt x="2390239" y="117342"/>
                </a:lnTo>
                <a:lnTo>
                  <a:pt x="2366793" y="140789"/>
                </a:lnTo>
              </a:path>
            </a:pathLst>
          </a:custGeom>
          <a:noFill/>
          <a:ln w="9360">
            <a:solidFill>
              <a:srgbClr val="af34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          </a:t>
            </a: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«ОНЛАЙНИНСПЕКЦИЯ.РФ.»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21" name="Рисунок 3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8064360" cy="4968720"/>
          </a:xfrm>
          <a:prstGeom prst="rect">
            <a:avLst/>
          </a:prstGeom>
          <a:ln w="0">
            <a:noFill/>
          </a:ln>
        </p:spPr>
      </p:pic>
      <p:sp>
        <p:nvSpPr>
          <p:cNvPr id="322" name="Полилиния 10"/>
          <p:cNvSpPr/>
          <p:nvPr/>
        </p:nvSpPr>
        <p:spPr>
          <a:xfrm>
            <a:off x="1312920" y="4487760"/>
            <a:ext cx="3344760" cy="1397160"/>
          </a:xfrm>
          <a:custGeom>
            <a:avLst/>
            <a:gdLst/>
            <a:ahLst/>
            <a:rect l="l" t="t" r="r" b="b"/>
            <a:pathLst>
              <a:path w="3345465" h="1397673">
                <a:moveTo>
                  <a:pt x="1113692" y="49519"/>
                </a:moveTo>
                <a:lnTo>
                  <a:pt x="1113692" y="49519"/>
                </a:lnTo>
                <a:lnTo>
                  <a:pt x="1992923" y="61242"/>
                </a:lnTo>
                <a:cubicBezTo>
                  <a:pt x="2293747" y="68320"/>
                  <a:pt x="2018995" y="62395"/>
                  <a:pt x="2145323" y="84688"/>
                </a:cubicBezTo>
                <a:cubicBezTo>
                  <a:pt x="2333467" y="117890"/>
                  <a:pt x="2265015" y="99649"/>
                  <a:pt x="2426677" y="119857"/>
                </a:cubicBezTo>
                <a:cubicBezTo>
                  <a:pt x="2450263" y="122805"/>
                  <a:pt x="2473569" y="127672"/>
                  <a:pt x="2497015" y="131580"/>
                </a:cubicBezTo>
                <a:cubicBezTo>
                  <a:pt x="2516553" y="139395"/>
                  <a:pt x="2535854" y="147834"/>
                  <a:pt x="2555630" y="155026"/>
                </a:cubicBezTo>
                <a:cubicBezTo>
                  <a:pt x="2578857" y="163472"/>
                  <a:pt x="2602523" y="170657"/>
                  <a:pt x="2625969" y="178473"/>
                </a:cubicBezTo>
                <a:lnTo>
                  <a:pt x="2731477" y="213642"/>
                </a:lnTo>
                <a:cubicBezTo>
                  <a:pt x="2743200" y="217550"/>
                  <a:pt x="2756364" y="218510"/>
                  <a:pt x="2766646" y="225365"/>
                </a:cubicBezTo>
                <a:lnTo>
                  <a:pt x="2836984" y="272257"/>
                </a:lnTo>
                <a:cubicBezTo>
                  <a:pt x="2844799" y="283980"/>
                  <a:pt x="2849733" y="298257"/>
                  <a:pt x="2860430" y="307426"/>
                </a:cubicBezTo>
                <a:cubicBezTo>
                  <a:pt x="2902185" y="343216"/>
                  <a:pt x="2918631" y="342492"/>
                  <a:pt x="2965938" y="354319"/>
                </a:cubicBezTo>
                <a:cubicBezTo>
                  <a:pt x="2981569" y="366042"/>
                  <a:pt x="2999014" y="375672"/>
                  <a:pt x="3012830" y="389488"/>
                </a:cubicBezTo>
                <a:cubicBezTo>
                  <a:pt x="3105053" y="481709"/>
                  <a:pt x="2956208" y="363793"/>
                  <a:pt x="3071446" y="459826"/>
                </a:cubicBezTo>
                <a:cubicBezTo>
                  <a:pt x="3131951" y="510247"/>
                  <a:pt x="3083072" y="452391"/>
                  <a:pt x="3141784" y="518442"/>
                </a:cubicBezTo>
                <a:cubicBezTo>
                  <a:pt x="3220487" y="606981"/>
                  <a:pt x="3169897" y="568445"/>
                  <a:pt x="3235569" y="612226"/>
                </a:cubicBezTo>
                <a:cubicBezTo>
                  <a:pt x="3239477" y="623949"/>
                  <a:pt x="3241766" y="636343"/>
                  <a:pt x="3247292" y="647396"/>
                </a:cubicBezTo>
                <a:cubicBezTo>
                  <a:pt x="3253593" y="659998"/>
                  <a:pt x="3263748" y="670332"/>
                  <a:pt x="3270738" y="682565"/>
                </a:cubicBezTo>
                <a:cubicBezTo>
                  <a:pt x="3279408" y="697738"/>
                  <a:pt x="3286369" y="713826"/>
                  <a:pt x="3294184" y="729457"/>
                </a:cubicBezTo>
                <a:cubicBezTo>
                  <a:pt x="3298092" y="745088"/>
                  <a:pt x="3300250" y="761264"/>
                  <a:pt x="3305907" y="776350"/>
                </a:cubicBezTo>
                <a:cubicBezTo>
                  <a:pt x="3312043" y="792713"/>
                  <a:pt x="3322469" y="807179"/>
                  <a:pt x="3329353" y="823242"/>
                </a:cubicBezTo>
                <a:cubicBezTo>
                  <a:pt x="3334221" y="834600"/>
                  <a:pt x="3337169" y="846688"/>
                  <a:pt x="3341077" y="858411"/>
                </a:cubicBezTo>
                <a:cubicBezTo>
                  <a:pt x="3337169" y="909211"/>
                  <a:pt x="3345465" y="962476"/>
                  <a:pt x="3329353" y="1010811"/>
                </a:cubicBezTo>
                <a:cubicBezTo>
                  <a:pt x="3323827" y="1027390"/>
                  <a:pt x="3298884" y="1028285"/>
                  <a:pt x="3282461" y="1034257"/>
                </a:cubicBezTo>
                <a:cubicBezTo>
                  <a:pt x="3161109" y="1078385"/>
                  <a:pt x="3225072" y="1033646"/>
                  <a:pt x="3083169" y="1104596"/>
                </a:cubicBezTo>
                <a:cubicBezTo>
                  <a:pt x="3059723" y="1116319"/>
                  <a:pt x="3036784" y="1129119"/>
                  <a:pt x="3012830" y="1139765"/>
                </a:cubicBezTo>
                <a:cubicBezTo>
                  <a:pt x="2983472" y="1152813"/>
                  <a:pt x="2962144" y="1153406"/>
                  <a:pt x="2930769" y="1163211"/>
                </a:cubicBezTo>
                <a:cubicBezTo>
                  <a:pt x="2883590" y="1177954"/>
                  <a:pt x="2835985" y="1191745"/>
                  <a:pt x="2790092" y="1210103"/>
                </a:cubicBezTo>
                <a:cubicBezTo>
                  <a:pt x="2712783" y="1241028"/>
                  <a:pt x="2741275" y="1231943"/>
                  <a:pt x="2649415" y="1256996"/>
                </a:cubicBezTo>
                <a:cubicBezTo>
                  <a:pt x="2633871" y="1261235"/>
                  <a:pt x="2617609" y="1263062"/>
                  <a:pt x="2602523" y="1268719"/>
                </a:cubicBezTo>
                <a:cubicBezTo>
                  <a:pt x="2517435" y="1300627"/>
                  <a:pt x="2594963" y="1290303"/>
                  <a:pt x="2485292" y="1315611"/>
                </a:cubicBezTo>
                <a:cubicBezTo>
                  <a:pt x="2450167" y="1323717"/>
                  <a:pt x="2325725" y="1335323"/>
                  <a:pt x="2297723" y="1339057"/>
                </a:cubicBezTo>
                <a:cubicBezTo>
                  <a:pt x="2183556" y="1354279"/>
                  <a:pt x="2269109" y="1345659"/>
                  <a:pt x="2145323" y="1374226"/>
                </a:cubicBezTo>
                <a:cubicBezTo>
                  <a:pt x="2122162" y="1379571"/>
                  <a:pt x="2098370" y="1381698"/>
                  <a:pt x="2074984" y="1385950"/>
                </a:cubicBezTo>
                <a:cubicBezTo>
                  <a:pt x="2055380" y="1389514"/>
                  <a:pt x="2035907" y="1393765"/>
                  <a:pt x="2016369" y="1397673"/>
                </a:cubicBezTo>
                <a:lnTo>
                  <a:pt x="984738" y="1385950"/>
                </a:lnTo>
                <a:cubicBezTo>
                  <a:pt x="922105" y="1384745"/>
                  <a:pt x="859532" y="1380166"/>
                  <a:pt x="797169" y="1374226"/>
                </a:cubicBezTo>
                <a:cubicBezTo>
                  <a:pt x="777333" y="1372337"/>
                  <a:pt x="758157" y="1366067"/>
                  <a:pt x="738553" y="1362503"/>
                </a:cubicBezTo>
                <a:cubicBezTo>
                  <a:pt x="675220" y="1350988"/>
                  <a:pt x="675754" y="1354609"/>
                  <a:pt x="621323" y="1339057"/>
                </a:cubicBezTo>
                <a:cubicBezTo>
                  <a:pt x="609441" y="1335662"/>
                  <a:pt x="597445" y="1332353"/>
                  <a:pt x="586153" y="1327334"/>
                </a:cubicBezTo>
                <a:cubicBezTo>
                  <a:pt x="476234" y="1278481"/>
                  <a:pt x="558285" y="1299243"/>
                  <a:pt x="445477" y="1280442"/>
                </a:cubicBezTo>
                <a:cubicBezTo>
                  <a:pt x="377811" y="1235332"/>
                  <a:pt x="444605" y="1275405"/>
                  <a:pt x="339969" y="1233550"/>
                </a:cubicBezTo>
                <a:cubicBezTo>
                  <a:pt x="323743" y="1227060"/>
                  <a:pt x="309140" y="1216987"/>
                  <a:pt x="293077" y="1210103"/>
                </a:cubicBezTo>
                <a:cubicBezTo>
                  <a:pt x="281719" y="1205235"/>
                  <a:pt x="268960" y="1203906"/>
                  <a:pt x="257907" y="1198380"/>
                </a:cubicBezTo>
                <a:cubicBezTo>
                  <a:pt x="177276" y="1158065"/>
                  <a:pt x="221079" y="1176861"/>
                  <a:pt x="164123" y="1128042"/>
                </a:cubicBezTo>
                <a:cubicBezTo>
                  <a:pt x="149288" y="1115327"/>
                  <a:pt x="132861" y="1104596"/>
                  <a:pt x="117230" y="1092873"/>
                </a:cubicBezTo>
                <a:cubicBezTo>
                  <a:pt x="109415" y="1077242"/>
                  <a:pt x="102271" y="1061257"/>
                  <a:pt x="93784" y="1045980"/>
                </a:cubicBezTo>
                <a:cubicBezTo>
                  <a:pt x="82719" y="1026062"/>
                  <a:pt x="67869" y="1008187"/>
                  <a:pt x="58615" y="987365"/>
                </a:cubicBezTo>
                <a:cubicBezTo>
                  <a:pt x="52071" y="972642"/>
                  <a:pt x="51522" y="955905"/>
                  <a:pt x="46892" y="940473"/>
                </a:cubicBezTo>
                <a:cubicBezTo>
                  <a:pt x="39790" y="916801"/>
                  <a:pt x="31261" y="893580"/>
                  <a:pt x="23446" y="870134"/>
                </a:cubicBezTo>
                <a:lnTo>
                  <a:pt x="11723" y="834965"/>
                </a:lnTo>
                <a:cubicBezTo>
                  <a:pt x="7815" y="760719"/>
                  <a:pt x="0" y="686575"/>
                  <a:pt x="0" y="612226"/>
                </a:cubicBezTo>
                <a:cubicBezTo>
                  <a:pt x="0" y="553481"/>
                  <a:pt x="2561" y="494407"/>
                  <a:pt x="11723" y="436380"/>
                </a:cubicBezTo>
                <a:cubicBezTo>
                  <a:pt x="19505" y="387095"/>
                  <a:pt x="48471" y="383111"/>
                  <a:pt x="82061" y="354319"/>
                </a:cubicBezTo>
                <a:cubicBezTo>
                  <a:pt x="94649" y="343530"/>
                  <a:pt x="106616" y="331886"/>
                  <a:pt x="117230" y="319150"/>
                </a:cubicBezTo>
                <a:cubicBezTo>
                  <a:pt x="126250" y="308326"/>
                  <a:pt x="130073" y="293258"/>
                  <a:pt x="140677" y="283980"/>
                </a:cubicBezTo>
                <a:cubicBezTo>
                  <a:pt x="167345" y="260646"/>
                  <a:pt x="221912" y="229068"/>
                  <a:pt x="257907" y="213642"/>
                </a:cubicBezTo>
                <a:cubicBezTo>
                  <a:pt x="269265" y="208774"/>
                  <a:pt x="281785" y="206938"/>
                  <a:pt x="293077" y="201919"/>
                </a:cubicBezTo>
                <a:cubicBezTo>
                  <a:pt x="317031" y="191273"/>
                  <a:pt x="339969" y="178473"/>
                  <a:pt x="363415" y="166750"/>
                </a:cubicBezTo>
                <a:cubicBezTo>
                  <a:pt x="371230" y="158934"/>
                  <a:pt x="377383" y="148990"/>
                  <a:pt x="386861" y="143303"/>
                </a:cubicBezTo>
                <a:cubicBezTo>
                  <a:pt x="396651" y="137429"/>
                  <a:pt x="463062" y="120308"/>
                  <a:pt x="468923" y="119857"/>
                </a:cubicBezTo>
                <a:cubicBezTo>
                  <a:pt x="554727" y="113257"/>
                  <a:pt x="640930" y="113340"/>
                  <a:pt x="726830" y="108134"/>
                </a:cubicBezTo>
                <a:cubicBezTo>
                  <a:pt x="769913" y="105523"/>
                  <a:pt x="812799" y="100319"/>
                  <a:pt x="855784" y="96411"/>
                </a:cubicBezTo>
                <a:cubicBezTo>
                  <a:pt x="940107" y="68303"/>
                  <a:pt x="834805" y="102405"/>
                  <a:pt x="937846" y="72965"/>
                </a:cubicBezTo>
                <a:cubicBezTo>
                  <a:pt x="1055583" y="39326"/>
                  <a:pt x="873300" y="86171"/>
                  <a:pt x="1019907" y="49519"/>
                </a:cubicBezTo>
                <a:cubicBezTo>
                  <a:pt x="1027722" y="37796"/>
                  <a:pt x="1029387" y="16212"/>
                  <a:pt x="1043353" y="14350"/>
                </a:cubicBezTo>
                <a:cubicBezTo>
                  <a:pt x="1150977" y="0"/>
                  <a:pt x="1159355" y="7875"/>
                  <a:pt x="1219200" y="37796"/>
                </a:cubicBezTo>
                <a:lnTo>
                  <a:pt x="1207477" y="37796"/>
                </a:lnTo>
              </a:path>
            </a:pathLst>
          </a:custGeom>
          <a:noFill/>
          <a:ln w="9360">
            <a:solidFill>
              <a:srgbClr val="af34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Полилиния 12"/>
          <p:cNvSpPr/>
          <p:nvPr/>
        </p:nvSpPr>
        <p:spPr>
          <a:xfrm>
            <a:off x="4700520" y="4513320"/>
            <a:ext cx="3529080" cy="1492200"/>
          </a:xfrm>
          <a:custGeom>
            <a:avLst/>
            <a:gdLst/>
            <a:ahLst/>
            <a:rect l="l" t="t" r="r" b="b"/>
            <a:pathLst>
              <a:path w="3528646" h="1492489">
                <a:moveTo>
                  <a:pt x="703384" y="35169"/>
                </a:moveTo>
                <a:lnTo>
                  <a:pt x="703384" y="35169"/>
                </a:lnTo>
                <a:cubicBezTo>
                  <a:pt x="864352" y="28730"/>
                  <a:pt x="1023636" y="24555"/>
                  <a:pt x="1184031" y="11723"/>
                </a:cubicBezTo>
                <a:cubicBezTo>
                  <a:pt x="1219304" y="8901"/>
                  <a:pt x="1254369" y="3908"/>
                  <a:pt x="1289538" y="0"/>
                </a:cubicBezTo>
                <a:lnTo>
                  <a:pt x="2379784" y="11723"/>
                </a:lnTo>
                <a:cubicBezTo>
                  <a:pt x="2415796" y="12782"/>
                  <a:pt x="2449964" y="28104"/>
                  <a:pt x="2485292" y="35169"/>
                </a:cubicBezTo>
                <a:cubicBezTo>
                  <a:pt x="2508600" y="39831"/>
                  <a:pt x="2532185" y="42984"/>
                  <a:pt x="2555631" y="46892"/>
                </a:cubicBezTo>
                <a:cubicBezTo>
                  <a:pt x="2579077" y="58615"/>
                  <a:pt x="2601283" y="73245"/>
                  <a:pt x="2625969" y="82061"/>
                </a:cubicBezTo>
                <a:cubicBezTo>
                  <a:pt x="2678545" y="100838"/>
                  <a:pt x="2739178" y="103495"/>
                  <a:pt x="2790092" y="128953"/>
                </a:cubicBezTo>
                <a:cubicBezTo>
                  <a:pt x="2805723" y="136769"/>
                  <a:pt x="2821811" y="143730"/>
                  <a:pt x="2836984" y="152400"/>
                </a:cubicBezTo>
                <a:cubicBezTo>
                  <a:pt x="2849217" y="159390"/>
                  <a:pt x="2859279" y="170124"/>
                  <a:pt x="2872154" y="175846"/>
                </a:cubicBezTo>
                <a:cubicBezTo>
                  <a:pt x="2894738" y="185883"/>
                  <a:pt x="2919266" y="190846"/>
                  <a:pt x="2942492" y="199292"/>
                </a:cubicBezTo>
                <a:cubicBezTo>
                  <a:pt x="3038072" y="234048"/>
                  <a:pt x="2963527" y="216475"/>
                  <a:pt x="3071446" y="234461"/>
                </a:cubicBezTo>
                <a:cubicBezTo>
                  <a:pt x="3099430" y="245655"/>
                  <a:pt x="3141820" y="257942"/>
                  <a:pt x="3165231" y="281353"/>
                </a:cubicBezTo>
                <a:cubicBezTo>
                  <a:pt x="3175194" y="291316"/>
                  <a:pt x="3177134" y="308443"/>
                  <a:pt x="3188677" y="316523"/>
                </a:cubicBezTo>
                <a:cubicBezTo>
                  <a:pt x="3217310" y="336566"/>
                  <a:pt x="3257746" y="338701"/>
                  <a:pt x="3282461" y="363415"/>
                </a:cubicBezTo>
                <a:cubicBezTo>
                  <a:pt x="3314646" y="395599"/>
                  <a:pt x="3295422" y="383366"/>
                  <a:pt x="3341077" y="398584"/>
                </a:cubicBezTo>
                <a:cubicBezTo>
                  <a:pt x="3411922" y="540278"/>
                  <a:pt x="3321695" y="364666"/>
                  <a:pt x="3387969" y="480646"/>
                </a:cubicBezTo>
                <a:cubicBezTo>
                  <a:pt x="3396639" y="495819"/>
                  <a:pt x="3402153" y="512719"/>
                  <a:pt x="3411415" y="527538"/>
                </a:cubicBezTo>
                <a:cubicBezTo>
                  <a:pt x="3487509" y="649289"/>
                  <a:pt x="3410619" y="502502"/>
                  <a:pt x="3470031" y="621323"/>
                </a:cubicBezTo>
                <a:cubicBezTo>
                  <a:pt x="3473939" y="636954"/>
                  <a:pt x="3475407" y="653406"/>
                  <a:pt x="3481754" y="668215"/>
                </a:cubicBezTo>
                <a:cubicBezTo>
                  <a:pt x="3487304" y="681165"/>
                  <a:pt x="3500253" y="690192"/>
                  <a:pt x="3505200" y="703384"/>
                </a:cubicBezTo>
                <a:cubicBezTo>
                  <a:pt x="3512196" y="722041"/>
                  <a:pt x="3512601" y="742549"/>
                  <a:pt x="3516923" y="762000"/>
                </a:cubicBezTo>
                <a:cubicBezTo>
                  <a:pt x="3520418" y="777728"/>
                  <a:pt x="3524738" y="793261"/>
                  <a:pt x="3528646" y="808892"/>
                </a:cubicBezTo>
                <a:cubicBezTo>
                  <a:pt x="3520831" y="859692"/>
                  <a:pt x="3516972" y="911261"/>
                  <a:pt x="3505200" y="961292"/>
                </a:cubicBezTo>
                <a:cubicBezTo>
                  <a:pt x="3495244" y="1003606"/>
                  <a:pt x="3480339" y="1012342"/>
                  <a:pt x="3446584" y="1031630"/>
                </a:cubicBezTo>
                <a:cubicBezTo>
                  <a:pt x="3406019" y="1054810"/>
                  <a:pt x="3403982" y="1053647"/>
                  <a:pt x="3364523" y="1066800"/>
                </a:cubicBezTo>
                <a:cubicBezTo>
                  <a:pt x="3356708" y="1078523"/>
                  <a:pt x="3352079" y="1093167"/>
                  <a:pt x="3341077" y="1101969"/>
                </a:cubicBezTo>
                <a:cubicBezTo>
                  <a:pt x="3331428" y="1109688"/>
                  <a:pt x="3316961" y="1108166"/>
                  <a:pt x="3305908" y="1113692"/>
                </a:cubicBezTo>
                <a:cubicBezTo>
                  <a:pt x="3293306" y="1119993"/>
                  <a:pt x="3282971" y="1130148"/>
                  <a:pt x="3270738" y="1137138"/>
                </a:cubicBezTo>
                <a:cubicBezTo>
                  <a:pt x="3255565" y="1145808"/>
                  <a:pt x="3239477" y="1152769"/>
                  <a:pt x="3223846" y="1160584"/>
                </a:cubicBezTo>
                <a:cubicBezTo>
                  <a:pt x="3216031" y="1172307"/>
                  <a:pt x="3211224" y="1186733"/>
                  <a:pt x="3200400" y="1195753"/>
                </a:cubicBezTo>
                <a:cubicBezTo>
                  <a:pt x="3186975" y="1206941"/>
                  <a:pt x="3169871" y="1213064"/>
                  <a:pt x="3153508" y="1219200"/>
                </a:cubicBezTo>
                <a:cubicBezTo>
                  <a:pt x="3125530" y="1229692"/>
                  <a:pt x="3060585" y="1238595"/>
                  <a:pt x="3036277" y="1242646"/>
                </a:cubicBezTo>
                <a:cubicBezTo>
                  <a:pt x="3020646" y="1254369"/>
                  <a:pt x="3008543" y="1273983"/>
                  <a:pt x="2989384" y="1277815"/>
                </a:cubicBezTo>
                <a:cubicBezTo>
                  <a:pt x="2902032" y="1295285"/>
                  <a:pt x="2816581" y="1277621"/>
                  <a:pt x="2731477" y="1301261"/>
                </a:cubicBezTo>
                <a:cubicBezTo>
                  <a:pt x="2670433" y="1318218"/>
                  <a:pt x="2576961" y="1356980"/>
                  <a:pt x="2508738" y="1371600"/>
                </a:cubicBezTo>
                <a:cubicBezTo>
                  <a:pt x="2481720" y="1377390"/>
                  <a:pt x="2453695" y="1377533"/>
                  <a:pt x="2426677" y="1383323"/>
                </a:cubicBezTo>
                <a:cubicBezTo>
                  <a:pt x="2398860" y="1389284"/>
                  <a:pt x="2372432" y="1400808"/>
                  <a:pt x="2344615" y="1406769"/>
                </a:cubicBezTo>
                <a:cubicBezTo>
                  <a:pt x="2281015" y="1420398"/>
                  <a:pt x="2163060" y="1426145"/>
                  <a:pt x="2110154" y="1430215"/>
                </a:cubicBezTo>
                <a:cubicBezTo>
                  <a:pt x="2090615" y="1434123"/>
                  <a:pt x="2071263" y="1439120"/>
                  <a:pt x="2051538" y="1441938"/>
                </a:cubicBezTo>
                <a:cubicBezTo>
                  <a:pt x="1864123" y="1468711"/>
                  <a:pt x="1681509" y="1460444"/>
                  <a:pt x="1488831" y="1465384"/>
                </a:cubicBezTo>
                <a:cubicBezTo>
                  <a:pt x="1261853" y="1482844"/>
                  <a:pt x="1205783" y="1492489"/>
                  <a:pt x="914400" y="1465384"/>
                </a:cubicBezTo>
                <a:cubicBezTo>
                  <a:pt x="884768" y="1462628"/>
                  <a:pt x="861210" y="1437433"/>
                  <a:pt x="832338" y="1430215"/>
                </a:cubicBezTo>
                <a:cubicBezTo>
                  <a:pt x="798009" y="1421633"/>
                  <a:pt x="761861" y="1423496"/>
                  <a:pt x="726831" y="1418492"/>
                </a:cubicBezTo>
                <a:cubicBezTo>
                  <a:pt x="707106" y="1415674"/>
                  <a:pt x="687754" y="1410677"/>
                  <a:pt x="668215" y="1406769"/>
                </a:cubicBezTo>
                <a:cubicBezTo>
                  <a:pt x="640861" y="1395046"/>
                  <a:pt x="614598" y="1380352"/>
                  <a:pt x="586154" y="1371600"/>
                </a:cubicBezTo>
                <a:cubicBezTo>
                  <a:pt x="563435" y="1364610"/>
                  <a:pt x="538365" y="1367394"/>
                  <a:pt x="515815" y="1359877"/>
                </a:cubicBezTo>
                <a:cubicBezTo>
                  <a:pt x="502449" y="1355421"/>
                  <a:pt x="493838" y="1341377"/>
                  <a:pt x="480646" y="1336430"/>
                </a:cubicBezTo>
                <a:cubicBezTo>
                  <a:pt x="461989" y="1329434"/>
                  <a:pt x="441569" y="1328615"/>
                  <a:pt x="422031" y="1324707"/>
                </a:cubicBezTo>
                <a:cubicBezTo>
                  <a:pt x="378990" y="1281668"/>
                  <a:pt x="419345" y="1313351"/>
                  <a:pt x="339969" y="1289538"/>
                </a:cubicBezTo>
                <a:cubicBezTo>
                  <a:pt x="319813" y="1283491"/>
                  <a:pt x="300892" y="1273907"/>
                  <a:pt x="281354" y="1266092"/>
                </a:cubicBezTo>
                <a:cubicBezTo>
                  <a:pt x="269631" y="1254369"/>
                  <a:pt x="260171" y="1239824"/>
                  <a:pt x="246184" y="1230923"/>
                </a:cubicBezTo>
                <a:cubicBezTo>
                  <a:pt x="216697" y="1212158"/>
                  <a:pt x="177115" y="1208744"/>
                  <a:pt x="152400" y="1184030"/>
                </a:cubicBezTo>
                <a:lnTo>
                  <a:pt x="93784" y="1125415"/>
                </a:lnTo>
                <a:cubicBezTo>
                  <a:pt x="69706" y="1053182"/>
                  <a:pt x="97244" y="1130269"/>
                  <a:pt x="58615" y="1043353"/>
                </a:cubicBezTo>
                <a:cubicBezTo>
                  <a:pt x="50069" y="1024123"/>
                  <a:pt x="42558" y="1004442"/>
                  <a:pt x="35169" y="984738"/>
                </a:cubicBezTo>
                <a:cubicBezTo>
                  <a:pt x="30830" y="973168"/>
                  <a:pt x="28972" y="960622"/>
                  <a:pt x="23446" y="949569"/>
                </a:cubicBezTo>
                <a:cubicBezTo>
                  <a:pt x="17145" y="936967"/>
                  <a:pt x="7815" y="926123"/>
                  <a:pt x="0" y="914400"/>
                </a:cubicBezTo>
                <a:cubicBezTo>
                  <a:pt x="3908" y="793261"/>
                  <a:pt x="5353" y="672018"/>
                  <a:pt x="11723" y="550984"/>
                </a:cubicBezTo>
                <a:cubicBezTo>
                  <a:pt x="13175" y="523391"/>
                  <a:pt x="16744" y="495729"/>
                  <a:pt x="23446" y="468923"/>
                </a:cubicBezTo>
                <a:cubicBezTo>
                  <a:pt x="28550" y="448508"/>
                  <a:pt x="39700" y="430084"/>
                  <a:pt x="46892" y="410307"/>
                </a:cubicBezTo>
                <a:cubicBezTo>
                  <a:pt x="55338" y="387081"/>
                  <a:pt x="59285" y="362074"/>
                  <a:pt x="70338" y="339969"/>
                </a:cubicBezTo>
                <a:cubicBezTo>
                  <a:pt x="85969" y="308707"/>
                  <a:pt x="89270" y="267155"/>
                  <a:pt x="117231" y="246184"/>
                </a:cubicBezTo>
                <a:cubicBezTo>
                  <a:pt x="132862" y="234461"/>
                  <a:pt x="150307" y="224831"/>
                  <a:pt x="164123" y="211015"/>
                </a:cubicBezTo>
                <a:cubicBezTo>
                  <a:pt x="177939" y="197199"/>
                  <a:pt x="187936" y="180022"/>
                  <a:pt x="199292" y="164123"/>
                </a:cubicBezTo>
                <a:cubicBezTo>
                  <a:pt x="207481" y="152658"/>
                  <a:pt x="211736" y="137755"/>
                  <a:pt x="222738" y="128953"/>
                </a:cubicBezTo>
                <a:cubicBezTo>
                  <a:pt x="232388" y="121233"/>
                  <a:pt x="246185" y="121138"/>
                  <a:pt x="257908" y="117230"/>
                </a:cubicBezTo>
                <a:cubicBezTo>
                  <a:pt x="325494" y="72173"/>
                  <a:pt x="260297" y="111182"/>
                  <a:pt x="328246" y="82061"/>
                </a:cubicBezTo>
                <a:cubicBezTo>
                  <a:pt x="414070" y="45279"/>
                  <a:pt x="335577" y="68505"/>
                  <a:pt x="422031" y="46892"/>
                </a:cubicBezTo>
                <a:cubicBezTo>
                  <a:pt x="433754" y="39077"/>
                  <a:pt x="444598" y="29747"/>
                  <a:pt x="457200" y="23446"/>
                </a:cubicBezTo>
                <a:cubicBezTo>
                  <a:pt x="486060" y="9016"/>
                  <a:pt x="535693" y="4502"/>
                  <a:pt x="562708" y="0"/>
                </a:cubicBezTo>
                <a:cubicBezTo>
                  <a:pt x="609600" y="7815"/>
                  <a:pt x="657674" y="10386"/>
                  <a:pt x="703384" y="23446"/>
                </a:cubicBezTo>
                <a:cubicBezTo>
                  <a:pt x="714012" y="26482"/>
                  <a:pt x="718200" y="39987"/>
                  <a:pt x="726831" y="46892"/>
                </a:cubicBezTo>
                <a:cubicBezTo>
                  <a:pt x="737833" y="55693"/>
                  <a:pt x="750277" y="62523"/>
                  <a:pt x="762000" y="70338"/>
                </a:cubicBezTo>
                <a:cubicBezTo>
                  <a:pt x="847929" y="58062"/>
                  <a:pt x="816430" y="58615"/>
                  <a:pt x="855784" y="58615"/>
                </a:cubicBezTo>
                <a:lnTo>
                  <a:pt x="855784" y="46892"/>
                </a:lnTo>
                <a:lnTo>
                  <a:pt x="785446" y="35169"/>
                </a:lnTo>
              </a:path>
            </a:pathLst>
          </a:custGeom>
          <a:noFill/>
          <a:ln w="9360">
            <a:solidFill>
              <a:srgbClr val="af34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«ОНЛАЙНИНСПЕКЦИЯ.РФ.»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26" name="Рисунок 3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632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Содержимое 3"/>
          <p:cNvGrpSpPr/>
          <p:nvPr/>
        </p:nvGrpSpPr>
        <p:grpSpPr>
          <a:xfrm>
            <a:off x="554040" y="85680"/>
            <a:ext cx="8315280" cy="6480360"/>
            <a:chOff x="554040" y="85680"/>
            <a:chExt cx="8315280" cy="6480360"/>
          </a:xfrm>
        </p:grpSpPr>
        <p:pic>
          <p:nvPicPr>
            <p:cNvPr id="328" name="Содержимое 3" descr=""/>
            <p:cNvPicPr/>
            <p:nvPr/>
          </p:nvPicPr>
          <p:blipFill>
            <a:blip r:embed="rId1"/>
            <a:stretch/>
          </p:blipFill>
          <p:spPr>
            <a:xfrm>
              <a:off x="554040" y="85680"/>
              <a:ext cx="8315280" cy="648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1143000" y="647640"/>
              <a:ext cx="7142040" cy="531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72880" indent="-2728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МИНИСТЕРСТВО ТРУДА И СОЦИАЛЬНОЙ ЗАЩИТЫ РОССИЙСКОЙ ФЕДЕРАЦИИ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ПРИКАЗ от 20 апреля 2022 г. N 223н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0000"/>
                  </a:solidFill>
                  <a:latin typeface="Cambria"/>
                </a:rPr>
                <a:t>ОБ УТВЕРЖДЕНИИ ПОЛОЖЕНИЯ ОБ ОСОБЕННОСТЯХ РАССЛЕДОВАНИЯ НЕСЧАСТНЫХ СЛУЧАЕВ НА ПРОИЗВОДСТВЕ В ОТДЕЛЬНЫХ ОТРАСЛЯХ И ОРГАНИЗАЦИЯХ, ФОРМ ДОКУМЕНТОВ, СООТВЕТСТВУЮЩИХ КЛАССИФИКАТОРОВ, НЕОБХОДИМЫХ ДЛЯ РАССЛЕДОВАНИЯ НЕСЧАСТНЫХ СЛУЧАЕВ НА ПРОИЗВОДСТВ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7030a0"/>
                  </a:solidFill>
                  <a:latin typeface="Cambria"/>
                </a:rPr>
                <a:t>Положение об особенностях расследования несчастных случаев на производстве в отдельных отраслях и организациях согласно приложению N 1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mbria"/>
                </a:rPr>
                <a:t>формы документов, необходимых для расследования несчастных случаев на производстве, согласно приложению N 2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mbria"/>
                </a:rPr>
                <a:t>классификаторы, необходимые для расследования несчастных случаев на производстве, согласно приложению N 3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0" name="Прямоугольник с двумя вырезанными противолежащими углами 4"/>
          <p:cNvGrpSpPr/>
          <p:nvPr/>
        </p:nvGrpSpPr>
        <p:grpSpPr>
          <a:xfrm>
            <a:off x="1779480" y="-6480"/>
            <a:ext cx="5724720" cy="920880"/>
            <a:chOff x="1779480" y="-6480"/>
            <a:chExt cx="5724720" cy="920880"/>
          </a:xfrm>
        </p:grpSpPr>
        <p:pic>
          <p:nvPicPr>
            <p:cNvPr id="331" name="Прямоугольник с двумя вырезанными противолежащими углами 4" descr=""/>
            <p:cNvPicPr/>
            <p:nvPr/>
          </p:nvPicPr>
          <p:blipFill>
            <a:blip r:embed="rId2"/>
            <a:stretch/>
          </p:blipFill>
          <p:spPr>
            <a:xfrm>
              <a:off x="1779480" y="-6480"/>
              <a:ext cx="572472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1895400" y="176040"/>
              <a:ext cx="549612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2400" spc="-1" strike="noStrike">
                  <a:solidFill>
                    <a:srgbClr val="ff0000"/>
                  </a:solidFill>
                  <a:latin typeface="Cambria"/>
                </a:rPr>
                <a:t>Приказ Минтруда РФ от 20.04.202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2400" spc="-1" strike="noStrike">
                  <a:solidFill>
                    <a:srgbClr val="ff0000"/>
                  </a:solidFill>
                  <a:latin typeface="Cambria"/>
                </a:rPr>
                <a:t> № </a:t>
              </a:r>
              <a:r>
                <a:rPr b="1" i="1" lang="ru-RU" sz="2400" spc="-1" strike="noStrike">
                  <a:solidFill>
                    <a:srgbClr val="ff0000"/>
                  </a:solidFill>
                  <a:latin typeface="Cambria"/>
                </a:rPr>
                <a:t>223н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Заголовок 5"/>
          <p:cNvGrpSpPr/>
          <p:nvPr/>
        </p:nvGrpSpPr>
        <p:grpSpPr>
          <a:xfrm>
            <a:off x="1060560" y="-1884240"/>
            <a:ext cx="7881840" cy="2871720"/>
            <a:chOff x="1060560" y="-1884240"/>
            <a:chExt cx="7881840" cy="2871720"/>
          </a:xfrm>
        </p:grpSpPr>
        <p:pic>
          <p:nvPicPr>
            <p:cNvPr id="334" name="Заголовок 5" descr=""/>
            <p:cNvPicPr/>
            <p:nvPr/>
          </p:nvPicPr>
          <p:blipFill>
            <a:blip r:embed="rId3"/>
            <a:stretch/>
          </p:blipFill>
          <p:spPr>
            <a:xfrm>
              <a:off x="1060560" y="-1884240"/>
              <a:ext cx="7881840" cy="28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1119240" y="839880"/>
              <a:ext cx="77659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18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Содержимое 3"/>
          <p:cNvGrpSpPr/>
          <p:nvPr/>
        </p:nvGrpSpPr>
        <p:grpSpPr>
          <a:xfrm>
            <a:off x="554040" y="85680"/>
            <a:ext cx="8315280" cy="6480360"/>
            <a:chOff x="554040" y="85680"/>
            <a:chExt cx="8315280" cy="6480360"/>
          </a:xfrm>
        </p:grpSpPr>
        <p:pic>
          <p:nvPicPr>
            <p:cNvPr id="337" name="Содержимое 3" descr=""/>
            <p:cNvPicPr/>
            <p:nvPr/>
          </p:nvPicPr>
          <p:blipFill>
            <a:blip r:embed="rId1"/>
            <a:stretch/>
          </p:blipFill>
          <p:spPr>
            <a:xfrm>
              <a:off x="554040" y="85680"/>
              <a:ext cx="8315280" cy="648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1143000" y="647640"/>
              <a:ext cx="7142040" cy="531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Cambria"/>
                </a:rPr>
                <a:t>    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r>
                <a:rPr b="0" lang="ru-RU" sz="2200" spc="-1" strike="noStrike">
                  <a:solidFill>
                    <a:srgbClr val="000000"/>
                  </a:solidFill>
                  <a:latin typeface="Cambria"/>
                </a:rPr>
                <a:t>2. Признать утратившими силу: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0000"/>
                  </a:solidFill>
                  <a:latin typeface="Cambria"/>
                </a:rPr>
                <a:t>постановление Министерства труда и социального развития Российской Федерации от 24 октября 2002 г. N 73 "Об утверждении форм документов, необходимых для расследования и учета несчастных случаев на производстве, и положения об особенностях расследования несчастных случаев на производстве в отдельных отраслях и организациях»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Cambria"/>
                </a:rPr>
                <a:t>3. Установить, что настоящий приказ вступает в силу с 1 сентября 2022 г. и действует до 1 сентября 2028 года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9" name="Прямоугольник с двумя вырезанными противолежащими углами 4"/>
          <p:cNvGrpSpPr/>
          <p:nvPr/>
        </p:nvGrpSpPr>
        <p:grpSpPr>
          <a:xfrm>
            <a:off x="1779480" y="-6480"/>
            <a:ext cx="5724720" cy="920880"/>
            <a:chOff x="1779480" y="-6480"/>
            <a:chExt cx="5724720" cy="920880"/>
          </a:xfrm>
        </p:grpSpPr>
        <p:pic>
          <p:nvPicPr>
            <p:cNvPr id="340" name="Прямоугольник с двумя вырезанными противолежащими углами 4" descr=""/>
            <p:cNvPicPr/>
            <p:nvPr/>
          </p:nvPicPr>
          <p:blipFill>
            <a:blip r:embed="rId2"/>
            <a:stretch/>
          </p:blipFill>
          <p:spPr>
            <a:xfrm>
              <a:off x="1779480" y="-6480"/>
              <a:ext cx="572472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1895400" y="176040"/>
              <a:ext cx="549612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2400" spc="-1" strike="noStrike">
                  <a:solidFill>
                    <a:srgbClr val="ff0000"/>
                  </a:solidFill>
                  <a:latin typeface="Cambria"/>
                </a:rPr>
                <a:t>Приказ Минтруда РФ от 20.04.202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2400" spc="-1" strike="noStrike">
                  <a:solidFill>
                    <a:srgbClr val="ff0000"/>
                  </a:solidFill>
                  <a:latin typeface="Cambria"/>
                </a:rPr>
                <a:t> № </a:t>
              </a:r>
              <a:r>
                <a:rPr b="1" i="1" lang="ru-RU" sz="2400" spc="-1" strike="noStrike">
                  <a:solidFill>
                    <a:srgbClr val="ff0000"/>
                  </a:solidFill>
                  <a:latin typeface="Cambria"/>
                </a:rPr>
                <a:t>223н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2" name="Заголовок 5"/>
          <p:cNvGrpSpPr/>
          <p:nvPr/>
        </p:nvGrpSpPr>
        <p:grpSpPr>
          <a:xfrm>
            <a:off x="1060560" y="-1884240"/>
            <a:ext cx="7881840" cy="2871720"/>
            <a:chOff x="1060560" y="-1884240"/>
            <a:chExt cx="7881840" cy="2871720"/>
          </a:xfrm>
        </p:grpSpPr>
        <p:pic>
          <p:nvPicPr>
            <p:cNvPr id="343" name="Заголовок 5" descr=""/>
            <p:cNvPicPr/>
            <p:nvPr/>
          </p:nvPicPr>
          <p:blipFill>
            <a:blip r:embed="rId3"/>
            <a:stretch/>
          </p:blipFill>
          <p:spPr>
            <a:xfrm>
              <a:off x="1060560" y="-1884240"/>
              <a:ext cx="7881840" cy="28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1119240" y="839880"/>
              <a:ext cx="77659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18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Содержимое 3"/>
          <p:cNvGrpSpPr/>
          <p:nvPr/>
        </p:nvGrpSpPr>
        <p:grpSpPr>
          <a:xfrm>
            <a:off x="554040" y="444600"/>
            <a:ext cx="8315280" cy="6121440"/>
            <a:chOff x="554040" y="444600"/>
            <a:chExt cx="8315280" cy="6121440"/>
          </a:xfrm>
        </p:grpSpPr>
        <p:pic>
          <p:nvPicPr>
            <p:cNvPr id="346" name="Содержимое 3" descr=""/>
            <p:cNvPicPr/>
            <p:nvPr/>
          </p:nvPicPr>
          <p:blipFill>
            <a:blip r:embed="rId1"/>
            <a:stretch/>
          </p:blipFill>
          <p:spPr>
            <a:xfrm>
              <a:off x="554040" y="444600"/>
              <a:ext cx="8315280" cy="612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1112760" y="977760"/>
              <a:ext cx="7202520" cy="50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72880" indent="-272880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00"/>
                  </a:solidFill>
                  <a:uFillTx/>
                  <a:latin typeface="Cambria"/>
                </a:rPr>
                <a:t>КЛАССИФИКАТОР № 1 </a:t>
              </a:r>
              <a:r>
                <a:rPr b="1" lang="ru-RU" sz="1800" spc="-1" strike="noStrike">
                  <a:solidFill>
                    <a:srgbClr val="000000"/>
                  </a:solidFill>
                  <a:latin typeface="Cambria"/>
                </a:rPr>
                <a:t>Классификатор видов (типов) несчастного случая на производстве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00"/>
                  </a:solidFill>
                  <a:uFillTx/>
                  <a:latin typeface="Cambria"/>
                </a:rPr>
                <a:t>КЛАССИФИКАТОР № 2 </a:t>
              </a:r>
              <a:r>
                <a:rPr b="1" lang="ru-RU" sz="1800" spc="-1" strike="noStrike">
                  <a:solidFill>
                    <a:srgbClr val="000000"/>
                  </a:solidFill>
                  <a:latin typeface="Cambria"/>
                </a:rPr>
                <a:t>Классификатор причин несчастных случаев на производстве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00"/>
                  </a:solidFill>
                  <a:uFillTx/>
                  <a:latin typeface="Cambria"/>
                </a:rPr>
                <a:t>КЛАССИФИКАТОР № 3 </a:t>
              </a:r>
              <a:r>
                <a:rPr b="1" lang="ru-RU" sz="1800" spc="-1" strike="noStrike">
                  <a:solidFill>
                    <a:srgbClr val="000000"/>
                  </a:solidFill>
                  <a:latin typeface="Cambria"/>
                </a:rPr>
                <a:t>Дополнительные классификаторы (категория несчастного случая; по времени суток на момент несчастного случая; по времени от начала работы; списочная численность; пол; возраст; стаж работы; по классу условий труда; по статусу занятости; по профессиональному статусу; код профессии; последствия несчастного случая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ctr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ctr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ctr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ctr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ctr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ctr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8" name="Прямоугольник с двумя вырезанными противолежащими углами 4"/>
          <p:cNvGrpSpPr/>
          <p:nvPr/>
        </p:nvGrpSpPr>
        <p:grpSpPr>
          <a:xfrm>
            <a:off x="1494000" y="609480"/>
            <a:ext cx="6516360" cy="957240"/>
            <a:chOff x="1494000" y="609480"/>
            <a:chExt cx="6516360" cy="957240"/>
          </a:xfrm>
        </p:grpSpPr>
        <p:pic>
          <p:nvPicPr>
            <p:cNvPr id="349" name="Прямоугольник с двумя вырезанными противолежащими углами 4" descr=""/>
            <p:cNvPicPr/>
            <p:nvPr/>
          </p:nvPicPr>
          <p:blipFill>
            <a:blip r:embed="rId2"/>
            <a:stretch/>
          </p:blipFill>
          <p:spPr>
            <a:xfrm>
              <a:off x="1494000" y="609480"/>
              <a:ext cx="651636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1612800" y="758880"/>
              <a:ext cx="627696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2400" spc="-1" strike="noStrike">
                  <a:solidFill>
                    <a:srgbClr val="ff0000"/>
                  </a:solidFill>
                  <a:latin typeface="Cambria"/>
                </a:rPr>
                <a:t>Приказ Минтруда РФ от 20.04.202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2400" spc="-1" strike="noStrike">
                  <a:solidFill>
                    <a:srgbClr val="ff0000"/>
                  </a:solidFill>
                  <a:latin typeface="Cambria"/>
                </a:rPr>
                <a:t> № </a:t>
              </a:r>
              <a:r>
                <a:rPr b="1" i="1" lang="ru-RU" sz="2400" spc="-1" strike="noStrike">
                  <a:solidFill>
                    <a:srgbClr val="ff0000"/>
                  </a:solidFill>
                  <a:latin typeface="Cambria"/>
                </a:rPr>
                <a:t>223н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Заголовок 5"/>
          <p:cNvGrpSpPr/>
          <p:nvPr/>
        </p:nvGrpSpPr>
        <p:grpSpPr>
          <a:xfrm>
            <a:off x="1060560" y="444600"/>
            <a:ext cx="7881840" cy="3975120"/>
            <a:chOff x="1060560" y="444600"/>
            <a:chExt cx="7881840" cy="3975120"/>
          </a:xfrm>
        </p:grpSpPr>
        <p:pic>
          <p:nvPicPr>
            <p:cNvPr id="352" name="Заголовок 5" descr=""/>
            <p:cNvPicPr/>
            <p:nvPr/>
          </p:nvPicPr>
          <p:blipFill>
            <a:blip r:embed="rId3"/>
            <a:stretch/>
          </p:blipFill>
          <p:spPr>
            <a:xfrm>
              <a:off x="1060560" y="444600"/>
              <a:ext cx="7881840" cy="397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 rot="10800000">
              <a:off x="1119240" y="478800"/>
              <a:ext cx="77659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18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Содержимое 3"/>
          <p:cNvGrpSpPr/>
          <p:nvPr/>
        </p:nvGrpSpPr>
        <p:grpSpPr>
          <a:xfrm>
            <a:off x="554040" y="85680"/>
            <a:ext cx="8315280" cy="6480360"/>
            <a:chOff x="554040" y="85680"/>
            <a:chExt cx="8315280" cy="6480360"/>
          </a:xfrm>
        </p:grpSpPr>
        <p:pic>
          <p:nvPicPr>
            <p:cNvPr id="355" name="Содержимое 3" descr=""/>
            <p:cNvPicPr/>
            <p:nvPr/>
          </p:nvPicPr>
          <p:blipFill>
            <a:blip r:embed="rId1"/>
            <a:stretch/>
          </p:blipFill>
          <p:spPr>
            <a:xfrm>
              <a:off x="554040" y="85680"/>
              <a:ext cx="8315280" cy="648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1143000" y="647640"/>
              <a:ext cx="7142040" cy="531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72880" indent="-272880" algn="just">
                <a:lnSpc>
                  <a:spcPct val="80000"/>
                </a:lnSpc>
                <a:spcBef>
                  <a:spcPts val="575"/>
                </a:spcBef>
                <a:buClr>
                  <a:srgbClr val="d34817"/>
                </a:buClr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80000"/>
                </a:lnSpc>
                <a:spcBef>
                  <a:spcPts val="575"/>
                </a:spcBef>
                <a:buClr>
                  <a:srgbClr val="d34817"/>
                </a:buClr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Cambria"/>
                </a:rPr>
                <a:t>  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Cambria"/>
                </a:rPr>
                <a:t>Было 9 форм документов, стало 11 (+ форма № 4 Н-1ЧС и  форма № 6 «Акт о расследовании обстоятельств, предполагающих гибель работника»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mbria"/>
                </a:rPr>
                <a:t>  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Cambria"/>
                </a:rPr>
                <a:t>Установленные формы  </a:t>
              </a:r>
              <a:r>
                <a:rPr b="1" lang="ru-RU" sz="1600" spc="-1" strike="noStrike">
                  <a:solidFill>
                    <a:srgbClr val="ff0000"/>
                  </a:solidFill>
                  <a:latin typeface="Cambria"/>
                </a:rPr>
                <a:t>АКТА о несчастном случае на производстве (</a:t>
              </a:r>
              <a:r>
                <a:rPr b="1" lang="ru-RU" sz="1600" spc="-1" strike="noStrike">
                  <a:solidFill>
                    <a:srgbClr val="000000"/>
                  </a:solidFill>
                  <a:latin typeface="Cambria"/>
                </a:rPr>
                <a:t>Форма Н-1),  </a:t>
              </a:r>
              <a:r>
                <a:rPr b="1" lang="ru-RU" sz="1600" spc="-1" strike="noStrike">
                  <a:solidFill>
                    <a:srgbClr val="ff0000"/>
                  </a:solidFill>
                  <a:latin typeface="Cambria"/>
                </a:rPr>
                <a:t>АКТА о расследовании группового несчастного случая </a:t>
              </a:r>
              <a:r>
                <a:rPr b="1" lang="ru-RU" sz="1600" spc="-1" strike="noStrike">
                  <a:solidFill>
                    <a:srgbClr val="000000"/>
                  </a:solidFill>
                  <a:latin typeface="Cambria"/>
                </a:rPr>
                <a:t>(</a:t>
              </a:r>
              <a:r>
                <a:rPr b="1" lang="ru-RU" sz="1600" spc="-1" strike="noStrike">
                  <a:solidFill>
                    <a:srgbClr val="ff0000"/>
                  </a:solidFill>
                  <a:latin typeface="Cambria"/>
                </a:rPr>
                <a:t>легкого </a:t>
              </a:r>
              <a:r>
                <a:rPr b="1" lang="ru-RU" sz="1600" spc="-1" strike="noStrike">
                  <a:solidFill>
                    <a:srgbClr val="000000"/>
                  </a:solidFill>
                  <a:latin typeface="Cambria"/>
                </a:rPr>
                <a:t>несчастного случая, тяжелого несчастного случая, несчастного случая со смертельным исходом)  и </a:t>
              </a:r>
              <a:r>
                <a:rPr b="1" lang="ru-RU" sz="1600" spc="-1" strike="noStrike">
                  <a:solidFill>
                    <a:srgbClr val="ff0000"/>
                  </a:solidFill>
                  <a:latin typeface="Cambria"/>
                </a:rPr>
                <a:t>ЗАКЛЮЧЕНИЯ </a:t>
              </a:r>
              <a:r>
                <a:rPr b="1" lang="ru-RU" sz="1600" spc="-1" strike="noStrike">
                  <a:solidFill>
                    <a:srgbClr val="000000"/>
                  </a:solidFill>
                  <a:latin typeface="Cambria"/>
                </a:rPr>
                <a:t>государственного инспектора труда </a:t>
              </a:r>
              <a:r>
                <a:rPr b="1" i="1" lang="ru-RU" sz="1600" spc="-1" strike="noStrike">
                  <a:solidFill>
                    <a:srgbClr val="000000"/>
                  </a:solidFill>
                  <a:latin typeface="Cambria"/>
                </a:rPr>
                <a:t>предусматривают обязательное внесение сведений  обо всех основных процессах по ОТ, обеспечивающих функционирование СУОТ (п. 47 Примерного положения о СУОТ, утв. приказом Минтруда РФ от 29.10.2021 № 776н)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80000"/>
                </a:lnSpc>
                <a:spcBef>
                  <a:spcPts val="575"/>
                </a:spcBef>
                <a:buClr>
                  <a:srgbClr val="d34817"/>
                </a:buClr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о проведении инструктажей и обучения по охране труда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80000"/>
                </a:lnSpc>
                <a:spcBef>
                  <a:spcPts val="575"/>
                </a:spcBef>
                <a:buClr>
                  <a:srgbClr val="d34817"/>
                </a:buClr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о проведении всех видов медицинских осмотров и психиатрического освидетельствования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80000"/>
                </a:lnSpc>
                <a:spcBef>
                  <a:spcPts val="575"/>
                </a:spcBef>
                <a:buClr>
                  <a:srgbClr val="d34817"/>
                </a:buClr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о проведении специальной оценки условий труда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80000"/>
                </a:lnSpc>
                <a:spcBef>
                  <a:spcPts val="575"/>
                </a:spcBef>
                <a:buClr>
                  <a:srgbClr val="d34817"/>
                </a:buClr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о проведенной оценке профессиональных рисков на рабочем месте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80000"/>
                </a:lnSpc>
                <a:spcBef>
                  <a:spcPts val="575"/>
                </a:spcBef>
                <a:buClr>
                  <a:srgbClr val="d34817"/>
                </a:buClr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об обеспечении пострадавшего средствами индивидуальной защит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" name="Прямоугольник с двумя вырезанными противолежащими углами 4"/>
          <p:cNvGrpSpPr/>
          <p:nvPr/>
        </p:nvGrpSpPr>
        <p:grpSpPr>
          <a:xfrm>
            <a:off x="1779480" y="-6480"/>
            <a:ext cx="5724720" cy="920880"/>
            <a:chOff x="1779480" y="-6480"/>
            <a:chExt cx="5724720" cy="920880"/>
          </a:xfrm>
        </p:grpSpPr>
        <p:pic>
          <p:nvPicPr>
            <p:cNvPr id="358" name="Прямоугольник с двумя вырезанными противолежащими углами 4" descr=""/>
            <p:cNvPicPr/>
            <p:nvPr/>
          </p:nvPicPr>
          <p:blipFill>
            <a:blip r:embed="rId2"/>
            <a:stretch/>
          </p:blipFill>
          <p:spPr>
            <a:xfrm>
              <a:off x="1779480" y="-6480"/>
              <a:ext cx="572472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1895400" y="176040"/>
              <a:ext cx="549612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2400" spc="-1" strike="noStrike">
                  <a:solidFill>
                    <a:srgbClr val="ff0000"/>
                  </a:solidFill>
                  <a:latin typeface="Cambria"/>
                </a:rPr>
                <a:t>Приказ Минтруда РФ от 20.04.202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2400" spc="-1" strike="noStrike">
                  <a:solidFill>
                    <a:srgbClr val="ff0000"/>
                  </a:solidFill>
                  <a:latin typeface="Cambria"/>
                </a:rPr>
                <a:t> № </a:t>
              </a:r>
              <a:r>
                <a:rPr b="1" i="1" lang="ru-RU" sz="2400" spc="-1" strike="noStrike">
                  <a:solidFill>
                    <a:srgbClr val="ff0000"/>
                  </a:solidFill>
                  <a:latin typeface="Cambria"/>
                </a:rPr>
                <a:t>223н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0" name="Заголовок 5"/>
          <p:cNvGrpSpPr/>
          <p:nvPr/>
        </p:nvGrpSpPr>
        <p:grpSpPr>
          <a:xfrm>
            <a:off x="1060560" y="-1884240"/>
            <a:ext cx="7881840" cy="2871720"/>
            <a:chOff x="1060560" y="-1884240"/>
            <a:chExt cx="7881840" cy="2871720"/>
          </a:xfrm>
        </p:grpSpPr>
        <p:pic>
          <p:nvPicPr>
            <p:cNvPr id="361" name="Заголовок 5" descr=""/>
            <p:cNvPicPr/>
            <p:nvPr/>
          </p:nvPicPr>
          <p:blipFill>
            <a:blip r:embed="rId3"/>
            <a:stretch/>
          </p:blipFill>
          <p:spPr>
            <a:xfrm>
              <a:off x="1060560" y="-1884240"/>
              <a:ext cx="7881840" cy="28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119240" y="839880"/>
              <a:ext cx="77659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18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grpSp>
        <p:nvGrpSpPr>
          <p:cNvPr id="364" name="Содержимое 3"/>
          <p:cNvGrpSpPr/>
          <p:nvPr/>
        </p:nvGrpSpPr>
        <p:grpSpPr>
          <a:xfrm>
            <a:off x="554040" y="85680"/>
            <a:ext cx="8315280" cy="6480360"/>
            <a:chOff x="554040" y="85680"/>
            <a:chExt cx="8315280" cy="6480360"/>
          </a:xfrm>
        </p:grpSpPr>
        <p:pic>
          <p:nvPicPr>
            <p:cNvPr id="365" name="Содержимое 3" descr=""/>
            <p:cNvPicPr/>
            <p:nvPr/>
          </p:nvPicPr>
          <p:blipFill>
            <a:blip r:embed="rId1"/>
            <a:stretch/>
          </p:blipFill>
          <p:spPr>
            <a:xfrm>
              <a:off x="554040" y="85680"/>
              <a:ext cx="8315280" cy="648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1143000" y="647640"/>
              <a:ext cx="7142040" cy="531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7" name="Прямоугольник с двумя вырезанными противолежащими углами 4"/>
          <p:cNvGrpSpPr/>
          <p:nvPr/>
        </p:nvGrpSpPr>
        <p:grpSpPr>
          <a:xfrm>
            <a:off x="1779480" y="85680"/>
            <a:ext cx="5724720" cy="828720"/>
            <a:chOff x="1779480" y="85680"/>
            <a:chExt cx="5724720" cy="828720"/>
          </a:xfrm>
        </p:grpSpPr>
        <p:pic>
          <p:nvPicPr>
            <p:cNvPr id="368" name="Прямоугольник с двумя вырезанными противолежащими углами 4" descr=""/>
            <p:cNvPicPr/>
            <p:nvPr/>
          </p:nvPicPr>
          <p:blipFill>
            <a:blip r:embed="rId2"/>
            <a:stretch/>
          </p:blipFill>
          <p:spPr>
            <a:xfrm>
              <a:off x="1779480" y="85680"/>
              <a:ext cx="57247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1895400" y="176040"/>
              <a:ext cx="549612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Cambria"/>
                </a:rPr>
                <a:t>Основные изменения в статье 228.1. ТК РФ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Cambria"/>
                </a:rPr>
                <a:t>Порядок извещения о несчастных случая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TextBox 5"/>
          <p:cNvSpPr/>
          <p:nvPr/>
        </p:nvSpPr>
        <p:spPr>
          <a:xfrm>
            <a:off x="971640" y="12682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Номер слайда 1"/>
          <p:cNvSpPr/>
          <p:nvPr/>
        </p:nvSpPr>
        <p:spPr>
          <a:xfrm>
            <a:off x="895320" y="1052640"/>
            <a:ext cx="7920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и групповом несчастном случае (два человека и более), тяжелом несчастном случае или несчастном случае со смертельным исходом работодатель (его представитель) в течение суток обязан направить извещение по установленной форме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территориальный орган федерального органа исполнительной власти, уполномоченного на осуществление федерального государственного контроля (надзора) за соблюдением трудового законодательства и иных нормативных правовых актов, содержащих нормы трудового права, </a:t>
            </a: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по месту происшедшего несчастного случа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(в прежней редакции ТК РФ - в соответствующий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ерриториальный орган федерального органа исполнительной власти, уполномоченного на осуществление федерального государственного контроля (надзора) за соблюдением трудового законодательства и иных нормативных правовых актов, содержащих нормы трудового права)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рган исполнительной власти субъекта Российской Федерации, осуществляющий полномочия по реализации государственной политики в области охраны труда на территории субъекта Российской Федерации, </a:t>
            </a: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рган местного самоуправления </a:t>
            </a: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по месту происшедшего несчастного случая</a:t>
            </a:r>
            <a:r>
              <a:rPr b="1" lang="ru-RU" sz="1200" spc="-1" strike="noStrike">
                <a:solidFill>
                  <a:srgbClr val="04617b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ежняя редакция ТК РФ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держала обязанность работодателя направить извещение в орган исполнительной власти субъекта Российской Федерации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и (или)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рган местного самоуправлени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о месту государственной регистрации юридического лица или физического лица в качестве индивидуального предпринимателя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в соответствующий федеральный орган исполнительной власти, если несчастный случай произошел в подведомственной ему организации</a:t>
            </a:r>
            <a:r>
              <a:rPr b="0" lang="ru-RU" sz="1200" spc="-1" strike="noStrike">
                <a:solidFill>
                  <a:srgbClr val="04617b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прежней редакции ТК РФ такого требования не было)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135E117-03E9-4105-B0BC-483E5B3DC146}" type="slidenum">
              <a:rPr b="0" lang="ru-RU" sz="800" spc="-1" strike="noStrike">
                <a:solidFill>
                  <a:srgbClr val="04617b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373" name="Содержимое 3"/>
          <p:cNvGrpSpPr/>
          <p:nvPr/>
        </p:nvGrpSpPr>
        <p:grpSpPr>
          <a:xfrm>
            <a:off x="554040" y="85680"/>
            <a:ext cx="8315280" cy="6480360"/>
            <a:chOff x="554040" y="85680"/>
            <a:chExt cx="8315280" cy="6480360"/>
          </a:xfrm>
        </p:grpSpPr>
        <p:pic>
          <p:nvPicPr>
            <p:cNvPr id="374" name="Содержимое 3" descr=""/>
            <p:cNvPicPr/>
            <p:nvPr/>
          </p:nvPicPr>
          <p:blipFill>
            <a:blip r:embed="rId1"/>
            <a:stretch/>
          </p:blipFill>
          <p:spPr>
            <a:xfrm>
              <a:off x="554040" y="85680"/>
              <a:ext cx="8315280" cy="648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1143000" y="647640"/>
              <a:ext cx="7142040" cy="531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6" name="Прямоугольник с двумя вырезанными противолежащими углами 4"/>
          <p:cNvGrpSpPr/>
          <p:nvPr/>
        </p:nvGrpSpPr>
        <p:grpSpPr>
          <a:xfrm>
            <a:off x="1779480" y="55440"/>
            <a:ext cx="5724720" cy="932040"/>
            <a:chOff x="1779480" y="55440"/>
            <a:chExt cx="5724720" cy="932040"/>
          </a:xfrm>
        </p:grpSpPr>
        <p:pic>
          <p:nvPicPr>
            <p:cNvPr id="377" name="Прямоугольник с двумя вырезанными противолежащими углами 4" descr=""/>
            <p:cNvPicPr/>
            <p:nvPr/>
          </p:nvPicPr>
          <p:blipFill>
            <a:blip r:embed="rId2"/>
            <a:stretch/>
          </p:blipFill>
          <p:spPr>
            <a:xfrm>
              <a:off x="1779480" y="55440"/>
              <a:ext cx="572472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1901880" y="182520"/>
              <a:ext cx="548460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1600" spc="-1" strike="noStrike">
                  <a:solidFill>
                    <a:srgbClr val="ff0000"/>
                  </a:solidFill>
                  <a:latin typeface="Cambria"/>
                </a:rPr>
                <a:t>Основные изменения в статье 229 ТК РФ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1600" spc="-1" strike="noStrike">
                  <a:solidFill>
                    <a:srgbClr val="ff0000"/>
                  </a:solidFill>
                  <a:latin typeface="Cambria"/>
                </a:rPr>
                <a:t>Порядок формирования комиссий по расследованию несчастных случае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Номер слайда 1"/>
          <p:cNvSpPr/>
          <p:nvPr/>
        </p:nvSpPr>
        <p:spPr>
          <a:xfrm>
            <a:off x="611280" y="1125360"/>
            <a:ext cx="8064360" cy="53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сследование несчастного случая, происшедшего в результате </a:t>
            </a: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катастрофы, аварии или иного повреждения транспортного средства,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водится комиссией, образуемой работодателем (его представителем) в соответствии с порядком, установленным частями первой и второй настоящей статьи, </a:t>
            </a: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т.е комиссия формируется в зависимости от степени тяжести  несчастного случая и возглавляется представителем Государственной инспекции труд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 расследовании несчастного случая (в том числе группового), в результате которого один или несколько пострадавших получили тяжелые повреждения здоровья, либо несчастного случая (в том числе группового) со смертельным исход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 прежней редакции ТК РФ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сследование несчастного случая, происшедшего в результате катастрофы, аварии или иного повреждения транспортного средства, проводится комиссией, образуемой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 возглавляемой работодателем (его представителем) не зависимо от степени тяжести несчастного случая)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8395831-4096-4D67-80D5-C0A0B8D00A89}" type="slidenum">
              <a:rPr b="0" lang="ru-RU" sz="1000" spc="-1" strike="noStrike">
                <a:solidFill>
                  <a:srgbClr val="04617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Статья 15. Обеспечение реализации положений настоящего Федерального закона ("регуляторная гильотина")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10920" y="1447560"/>
            <a:ext cx="82818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Правительством Российской Федерации </a:t>
            </a:r>
            <a:r>
              <a:rPr b="0" lang="ru-RU" sz="1600" spc="-1" strike="noStrike">
                <a:solidFill>
                  <a:srgbClr val="ff0000"/>
                </a:solidFill>
                <a:latin typeface="Cambria"/>
              </a:rPr>
              <a:t>до 1 января 2021 года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в соответствии с определенным им перечнем видов государственного контроля (надзора) обеспечиваются </a:t>
            </a:r>
            <a:r>
              <a:rPr b="0" lang="ru-RU" sz="1600" spc="-1" strike="noStrike">
                <a:solidFill>
                  <a:srgbClr val="ff0000"/>
                </a:solidFill>
                <a:latin typeface="Cambria"/>
              </a:rPr>
              <a:t>признание утратившими силу, не действующими на территории Российской Федерации и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отмена нормативных правовых актов Правительства Российской Федерации, федеральных органов исполнительной власти, правовых актов исполнительных и распорядительных органов государственной власти </a:t>
            </a:r>
            <a:r>
              <a:rPr b="0" lang="ru-RU" sz="1600" spc="-1" strike="noStrike">
                <a:solidFill>
                  <a:srgbClr val="ff0000"/>
                </a:solidFill>
                <a:latin typeface="Cambria"/>
              </a:rPr>
              <a:t>РСФСР и Союза ССР,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содержащих обязательные требования, соблюдение которых оценивается при осуществлении государственного контроля (надзора).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mbria"/>
              </a:rPr>
              <a:t>С 1 января 2021 года при осуществлении государственного контроля (надзора) не допускается оценка соблюдения обязательных требований, содержащихся в указанных актах, если они вступили в силу до 1 января 2020 года.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mbria"/>
              </a:rPr>
              <a:t>С 1 января 2021 года несоблюдение требований, содержащихся в указанных актах, не может являться основанием для привлечения к административной ответственности, если они вступили в силу до 1 января 2020 года.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Правительство Российской Федерации вправе определить перечень нормативных правовых актов либо групп нормативных правовых актов, в отношении которых положения частей 1, 2 и 3 настоящей статьи не применяются.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Содержимое 3"/>
          <p:cNvGrpSpPr/>
          <p:nvPr/>
        </p:nvGrpSpPr>
        <p:grpSpPr>
          <a:xfrm>
            <a:off x="554040" y="85680"/>
            <a:ext cx="8315280" cy="6480360"/>
            <a:chOff x="554040" y="85680"/>
            <a:chExt cx="8315280" cy="6480360"/>
          </a:xfrm>
        </p:grpSpPr>
        <p:pic>
          <p:nvPicPr>
            <p:cNvPr id="381" name="Содержимое 3" descr=""/>
            <p:cNvPicPr/>
            <p:nvPr/>
          </p:nvPicPr>
          <p:blipFill>
            <a:blip r:embed="rId1"/>
            <a:stretch/>
          </p:blipFill>
          <p:spPr>
            <a:xfrm>
              <a:off x="554040" y="85680"/>
              <a:ext cx="8315280" cy="648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1143000" y="647640"/>
              <a:ext cx="7142040" cy="531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72880" indent="-272880">
                <a:lnSpc>
                  <a:spcPct val="80000"/>
                </a:lnSpc>
                <a:spcBef>
                  <a:spcPts val="575"/>
                </a:spcBef>
                <a:buClr>
                  <a:srgbClr val="d34817"/>
                </a:buClr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mbria"/>
                </a:rPr>
                <a:t>   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80000"/>
                </a:lnSpc>
                <a:spcBef>
                  <a:spcPts val="575"/>
                </a:spcBef>
                <a:buClr>
                  <a:srgbClr val="d34817"/>
                </a:buClr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mbria"/>
                </a:rPr>
                <a:t>Установлены дополнительные требования к комиссии по расследованию несчастного случая  с тяжелыми последствиями для отдельных видов деятельности и категорий работников (например, для электроэнергетики и теплоэнергетики  (п. 10а), на воздушных судах (п. 10е), для дистанционных работников (п. 10з)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80000"/>
                </a:lnSpc>
                <a:spcBef>
                  <a:spcPts val="575"/>
                </a:spcBef>
                <a:buClr>
                  <a:srgbClr val="d34817"/>
                </a:buClr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mbria"/>
                </a:rPr>
                <a:t>Установлены дополнительные основания для расследования несчастного случая с тяжелыми последствиями, происшедшего с лицом, выполнявшим работу на основании договора ГПХ (</a:t>
              </a:r>
              <a:r>
                <a:rPr b="1" lang="ru-RU" sz="2000" spc="-1" strike="noStrike">
                  <a:solidFill>
                    <a:srgbClr val="ff0000"/>
                  </a:solidFill>
                  <a:latin typeface="Cambria"/>
                </a:rPr>
                <a:t>кроме заявления пострадавшего или его родственников, как было раньше, так же НС расследуется и на основании информации правоохранительных органов, органов исполнительной власти, профсоюзов и исполнительного органа страховщика) </a:t>
              </a:r>
              <a:r>
                <a:rPr b="0" lang="ru-RU" sz="2000" spc="-1" strike="noStrike">
                  <a:solidFill>
                    <a:srgbClr val="000000"/>
                  </a:solidFill>
                  <a:latin typeface="Cambria"/>
                </a:rPr>
                <a:t>(п. 17)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80000"/>
                </a:lnSpc>
                <a:spcBef>
                  <a:spcPts val="575"/>
                </a:spcBef>
                <a:buClr>
                  <a:srgbClr val="d34817"/>
                </a:buClr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ctr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Прямоугольник с двумя вырезанными противолежащими углами 4"/>
          <p:cNvGrpSpPr/>
          <p:nvPr/>
        </p:nvGrpSpPr>
        <p:grpSpPr>
          <a:xfrm>
            <a:off x="1779480" y="-6480"/>
            <a:ext cx="5724720" cy="920880"/>
            <a:chOff x="1779480" y="-6480"/>
            <a:chExt cx="5724720" cy="920880"/>
          </a:xfrm>
        </p:grpSpPr>
        <p:pic>
          <p:nvPicPr>
            <p:cNvPr id="384" name="Прямоугольник с двумя вырезанными противолежащими углами 4" descr=""/>
            <p:cNvPicPr/>
            <p:nvPr/>
          </p:nvPicPr>
          <p:blipFill>
            <a:blip r:embed="rId2"/>
            <a:stretch/>
          </p:blipFill>
          <p:spPr>
            <a:xfrm>
              <a:off x="1779480" y="-6480"/>
              <a:ext cx="572472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1895400" y="176040"/>
              <a:ext cx="549612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2400" spc="-1" strike="noStrike">
                  <a:solidFill>
                    <a:srgbClr val="ff0000"/>
                  </a:solidFill>
                  <a:latin typeface="Cambria"/>
                </a:rPr>
                <a:t>Приказ Минтруда РФ от 20.04.202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2400" spc="-1" strike="noStrike">
                  <a:solidFill>
                    <a:srgbClr val="ff0000"/>
                  </a:solidFill>
                  <a:latin typeface="Cambria"/>
                </a:rPr>
                <a:t> № </a:t>
              </a:r>
              <a:r>
                <a:rPr b="1" i="1" lang="ru-RU" sz="2400" spc="-1" strike="noStrike">
                  <a:solidFill>
                    <a:srgbClr val="ff0000"/>
                  </a:solidFill>
                  <a:latin typeface="Cambria"/>
                </a:rPr>
                <a:t>223н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6" name="Заголовок 5"/>
          <p:cNvGrpSpPr/>
          <p:nvPr/>
        </p:nvGrpSpPr>
        <p:grpSpPr>
          <a:xfrm>
            <a:off x="1060560" y="-1884240"/>
            <a:ext cx="7881840" cy="2871720"/>
            <a:chOff x="1060560" y="-1884240"/>
            <a:chExt cx="7881840" cy="2871720"/>
          </a:xfrm>
        </p:grpSpPr>
        <p:pic>
          <p:nvPicPr>
            <p:cNvPr id="387" name="Заголовок 5" descr=""/>
            <p:cNvPicPr/>
            <p:nvPr/>
          </p:nvPicPr>
          <p:blipFill>
            <a:blip r:embed="rId3"/>
            <a:stretch/>
          </p:blipFill>
          <p:spPr>
            <a:xfrm>
              <a:off x="1060560" y="-1884240"/>
              <a:ext cx="7881840" cy="28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1119240" y="839880"/>
              <a:ext cx="77659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18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Содержимое 3"/>
          <p:cNvGrpSpPr/>
          <p:nvPr/>
        </p:nvGrpSpPr>
        <p:grpSpPr>
          <a:xfrm>
            <a:off x="554040" y="85680"/>
            <a:ext cx="8315280" cy="6480360"/>
            <a:chOff x="554040" y="85680"/>
            <a:chExt cx="8315280" cy="6480360"/>
          </a:xfrm>
        </p:grpSpPr>
        <p:pic>
          <p:nvPicPr>
            <p:cNvPr id="390" name="Содержимое 3" descr=""/>
            <p:cNvPicPr/>
            <p:nvPr/>
          </p:nvPicPr>
          <p:blipFill>
            <a:blip r:embed="rId1"/>
            <a:stretch/>
          </p:blipFill>
          <p:spPr>
            <a:xfrm>
              <a:off x="554040" y="85680"/>
              <a:ext cx="8315280" cy="648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1143000" y="647640"/>
              <a:ext cx="7142040" cy="531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72880" indent="-272880">
                <a:lnSpc>
                  <a:spcPct val="80000"/>
                </a:lnSpc>
                <a:spcBef>
                  <a:spcPts val="575"/>
                </a:spcBef>
                <a:buClr>
                  <a:srgbClr val="d34817"/>
                </a:buClr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mbria"/>
                </a:rPr>
                <a:t>   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80000"/>
                </a:lnSpc>
                <a:spcBef>
                  <a:spcPts val="575"/>
                </a:spcBef>
                <a:buClr>
                  <a:srgbClr val="d34817"/>
                </a:buClr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mbria"/>
                </a:rPr>
                <a:t>Установлен порядок расследования обстоятельств происшествия, дающего основания предполагать гибель работника и других лиц при исполнении трудовых обязанностей, </a:t>
              </a:r>
              <a:r>
                <a:rPr b="0" lang="ru-RU" sz="2000" spc="-1" strike="noStrike">
                  <a:solidFill>
                    <a:srgbClr val="ff0000"/>
                  </a:solidFill>
                  <a:latin typeface="Cambria"/>
                </a:rPr>
                <a:t>НОВОЕ </a:t>
              </a:r>
              <a:r>
                <a:rPr b="0" lang="ru-RU" sz="2000" spc="-1" strike="noStrike">
                  <a:solidFill>
                    <a:srgbClr val="000000"/>
                  </a:solidFill>
                  <a:latin typeface="Cambria"/>
                </a:rPr>
                <a:t>- Акт о расследовании обстоятельств происшествия,  определен дальнейший порядок действий членов комиссии и ГИТ (п. 18)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80000"/>
                </a:lnSpc>
                <a:spcBef>
                  <a:spcPts val="575"/>
                </a:spcBef>
                <a:buClr>
                  <a:srgbClr val="d34817"/>
                </a:buClr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mbria"/>
                </a:rPr>
                <a:t>Установлены особенности, связанные с расследованием несчастных случаев, происшедших в результате чрезвычайных ситуаций, в т.ч повлекшие гибель 5 и более человек, когда необходимо длительное проведение экспертиз (</a:t>
              </a:r>
              <a:r>
                <a:rPr b="0" lang="ru-RU" sz="2000" spc="-1" strike="noStrike">
                  <a:solidFill>
                    <a:srgbClr val="ff0000"/>
                  </a:solidFill>
                  <a:latin typeface="Cambria"/>
                </a:rPr>
                <a:t>НОВОЕ</a:t>
              </a:r>
              <a:r>
                <a:rPr b="0" lang="ru-RU" sz="2000" spc="-1" strike="noStrike">
                  <a:solidFill>
                    <a:srgbClr val="000000"/>
                  </a:solidFill>
                  <a:latin typeface="Cambria"/>
                </a:rPr>
                <a:t> – после установления причинно-следственной связи между гибелью (травмой) и исполнением трудовых обязанностей оформляется и утверждается  «промежуточный» Акт формы Н-1ЧС,  который направляется в течение суток страховщику) (п. 21) 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ctr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2" name="Прямоугольник с двумя вырезанными противолежащими углами 4"/>
          <p:cNvGrpSpPr/>
          <p:nvPr/>
        </p:nvGrpSpPr>
        <p:grpSpPr>
          <a:xfrm>
            <a:off x="1779480" y="-6480"/>
            <a:ext cx="5724720" cy="920880"/>
            <a:chOff x="1779480" y="-6480"/>
            <a:chExt cx="5724720" cy="920880"/>
          </a:xfrm>
        </p:grpSpPr>
        <p:pic>
          <p:nvPicPr>
            <p:cNvPr id="393" name="Прямоугольник с двумя вырезанными противолежащими углами 4" descr=""/>
            <p:cNvPicPr/>
            <p:nvPr/>
          </p:nvPicPr>
          <p:blipFill>
            <a:blip r:embed="rId2"/>
            <a:stretch/>
          </p:blipFill>
          <p:spPr>
            <a:xfrm>
              <a:off x="1779480" y="-6480"/>
              <a:ext cx="572472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1895400" y="176040"/>
              <a:ext cx="549612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2400" spc="-1" strike="noStrike">
                  <a:solidFill>
                    <a:srgbClr val="ff0000"/>
                  </a:solidFill>
                  <a:latin typeface="Cambria"/>
                </a:rPr>
                <a:t>Приказ Минтруда РФ от 20.04.202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2400" spc="-1" strike="noStrike">
                  <a:solidFill>
                    <a:srgbClr val="ff0000"/>
                  </a:solidFill>
                  <a:latin typeface="Cambria"/>
                </a:rPr>
                <a:t> № </a:t>
              </a:r>
              <a:r>
                <a:rPr b="1" i="1" lang="ru-RU" sz="2400" spc="-1" strike="noStrike">
                  <a:solidFill>
                    <a:srgbClr val="ff0000"/>
                  </a:solidFill>
                  <a:latin typeface="Cambria"/>
                </a:rPr>
                <a:t>223н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5" name="Заголовок 5"/>
          <p:cNvGrpSpPr/>
          <p:nvPr/>
        </p:nvGrpSpPr>
        <p:grpSpPr>
          <a:xfrm>
            <a:off x="1060560" y="-1884240"/>
            <a:ext cx="7881840" cy="2871720"/>
            <a:chOff x="1060560" y="-1884240"/>
            <a:chExt cx="7881840" cy="2871720"/>
          </a:xfrm>
        </p:grpSpPr>
        <p:pic>
          <p:nvPicPr>
            <p:cNvPr id="396" name="Заголовок 5" descr=""/>
            <p:cNvPicPr/>
            <p:nvPr/>
          </p:nvPicPr>
          <p:blipFill>
            <a:blip r:embed="rId3"/>
            <a:stretch/>
          </p:blipFill>
          <p:spPr>
            <a:xfrm>
              <a:off x="1060560" y="-1884240"/>
              <a:ext cx="7881840" cy="28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1119240" y="839880"/>
              <a:ext cx="77659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18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Содержимое 3"/>
          <p:cNvGrpSpPr/>
          <p:nvPr/>
        </p:nvGrpSpPr>
        <p:grpSpPr>
          <a:xfrm>
            <a:off x="554040" y="85680"/>
            <a:ext cx="8315280" cy="6662880"/>
            <a:chOff x="554040" y="85680"/>
            <a:chExt cx="8315280" cy="6662880"/>
          </a:xfrm>
        </p:grpSpPr>
        <p:pic>
          <p:nvPicPr>
            <p:cNvPr id="399" name="Содержимое 3" descr=""/>
            <p:cNvPicPr/>
            <p:nvPr/>
          </p:nvPicPr>
          <p:blipFill>
            <a:blip r:embed="rId1"/>
            <a:stretch/>
          </p:blipFill>
          <p:spPr>
            <a:xfrm>
              <a:off x="554040" y="85680"/>
              <a:ext cx="8315280" cy="666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1157400" y="662040"/>
              <a:ext cx="7111800" cy="546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72880" indent="-272880">
                <a:lnSpc>
                  <a:spcPct val="80000"/>
                </a:lnSpc>
                <a:spcBef>
                  <a:spcPts val="575"/>
                </a:spcBef>
                <a:buClr>
                  <a:srgbClr val="d34817"/>
                </a:buClr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Cambria"/>
                </a:rPr>
                <a:t>    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80000"/>
                </a:lnSpc>
                <a:spcBef>
                  <a:spcPts val="575"/>
                </a:spcBef>
                <a:buClr>
                  <a:srgbClr val="d34817"/>
                </a:buClr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Cambria"/>
                </a:rPr>
                <a:t>Определена </a:t>
              </a:r>
              <a:r>
                <a:rPr b="0" lang="ru-RU" sz="2200" spc="-1" strike="noStrike">
                  <a:solidFill>
                    <a:srgbClr val="ff0000"/>
                  </a:solidFill>
                  <a:latin typeface="Cambria"/>
                </a:rPr>
                <a:t>процедура  и условия для замены члена комиссии </a:t>
              </a:r>
              <a:r>
                <a:rPr b="0" lang="ru-RU" sz="2200" spc="-1" strike="noStrike">
                  <a:solidFill>
                    <a:srgbClr val="000000"/>
                  </a:solidFill>
                  <a:latin typeface="Cambria"/>
                </a:rPr>
                <a:t>по расследованию несчастного случая (п. 23)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80000"/>
                </a:lnSpc>
                <a:spcBef>
                  <a:spcPts val="575"/>
                </a:spcBef>
                <a:buClr>
                  <a:srgbClr val="d34817"/>
                </a:buClr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Cambria"/>
                </a:rPr>
                <a:t>Предусмотрена возможность проведения опросов, осмотра места происшествия и заседания комиссии  с помощью  с применение </a:t>
              </a:r>
              <a:r>
                <a:rPr b="0" lang="ru-RU" sz="2200" spc="-1" strike="noStrike">
                  <a:solidFill>
                    <a:srgbClr val="ff0000"/>
                  </a:solidFill>
                  <a:latin typeface="Cambria"/>
                </a:rPr>
                <a:t>дистанционных</a:t>
              </a:r>
              <a:r>
                <a:rPr b="0" lang="ru-RU" sz="2200" spc="-1" strike="noStrike">
                  <a:solidFill>
                    <a:srgbClr val="000000"/>
                  </a:solidFill>
                  <a:latin typeface="Cambria"/>
                </a:rPr>
                <a:t> технологий, в том числе с использованием видеоконференцсвязи (п.п.25 и 26)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80000"/>
                </a:lnSpc>
                <a:spcBef>
                  <a:spcPts val="575"/>
                </a:spcBef>
                <a:buClr>
                  <a:srgbClr val="d34817"/>
                </a:buClr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Cambria"/>
                </a:rPr>
                <a:t>Уточнено, что </a:t>
              </a:r>
              <a:r>
                <a:rPr b="0" lang="ru-RU" sz="2200" spc="-1" strike="noStrike">
                  <a:solidFill>
                    <a:srgbClr val="ff0000"/>
                  </a:solidFill>
                  <a:latin typeface="Cambria"/>
                </a:rPr>
                <a:t>легкий несчастный случай</a:t>
              </a:r>
              <a:r>
                <a:rPr b="0" lang="ru-RU" sz="2200" spc="-1" strike="noStrike">
                  <a:solidFill>
                    <a:srgbClr val="000000"/>
                  </a:solidFill>
                  <a:latin typeface="Cambria"/>
                </a:rPr>
                <a:t>, квалифицированный по результату расследования как не связанный с производством, оформляется </a:t>
              </a:r>
              <a:r>
                <a:rPr b="0" lang="ru-RU" sz="2200" spc="-1" strike="noStrike">
                  <a:solidFill>
                    <a:srgbClr val="ff0000"/>
                  </a:solidFill>
                  <a:latin typeface="Cambria"/>
                </a:rPr>
                <a:t>актом о расследовании несчастного случая установленной формы </a:t>
              </a:r>
              <a:r>
                <a:rPr b="0" lang="ru-RU" sz="2200" spc="-1" strike="noStrike">
                  <a:solidFill>
                    <a:srgbClr val="000000"/>
                  </a:solidFill>
                  <a:latin typeface="Cambria"/>
                </a:rPr>
                <a:t>(п. 30)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Cambria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1" name="Прямоугольник с двумя вырезанными противолежащими углами 4"/>
          <p:cNvGrpSpPr/>
          <p:nvPr/>
        </p:nvGrpSpPr>
        <p:grpSpPr>
          <a:xfrm>
            <a:off x="1779480" y="-6480"/>
            <a:ext cx="5724720" cy="920880"/>
            <a:chOff x="1779480" y="-6480"/>
            <a:chExt cx="5724720" cy="920880"/>
          </a:xfrm>
        </p:grpSpPr>
        <p:pic>
          <p:nvPicPr>
            <p:cNvPr id="402" name="Прямоугольник с двумя вырезанными противолежащими углами 4" descr=""/>
            <p:cNvPicPr/>
            <p:nvPr/>
          </p:nvPicPr>
          <p:blipFill>
            <a:blip r:embed="rId2"/>
            <a:stretch/>
          </p:blipFill>
          <p:spPr>
            <a:xfrm>
              <a:off x="1779480" y="-6480"/>
              <a:ext cx="572472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1895400" y="176040"/>
              <a:ext cx="549612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2400" spc="-1" strike="noStrike">
                  <a:solidFill>
                    <a:srgbClr val="ff0000"/>
                  </a:solidFill>
                  <a:latin typeface="Cambria"/>
                </a:rPr>
                <a:t>Приказ Минтруда РФ от 20.04.202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2400" spc="-1" strike="noStrike">
                  <a:solidFill>
                    <a:srgbClr val="ff0000"/>
                  </a:solidFill>
                  <a:latin typeface="Cambria"/>
                </a:rPr>
                <a:t> № </a:t>
              </a:r>
              <a:r>
                <a:rPr b="1" i="1" lang="ru-RU" sz="2400" spc="-1" strike="noStrike">
                  <a:solidFill>
                    <a:srgbClr val="ff0000"/>
                  </a:solidFill>
                  <a:latin typeface="Cambria"/>
                </a:rPr>
                <a:t>223н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4" name="Заголовок 5"/>
          <p:cNvGrpSpPr/>
          <p:nvPr/>
        </p:nvGrpSpPr>
        <p:grpSpPr>
          <a:xfrm>
            <a:off x="1060560" y="-1884240"/>
            <a:ext cx="7881840" cy="2871720"/>
            <a:chOff x="1060560" y="-1884240"/>
            <a:chExt cx="7881840" cy="2871720"/>
          </a:xfrm>
        </p:grpSpPr>
        <p:pic>
          <p:nvPicPr>
            <p:cNvPr id="405" name="Заголовок 5" descr=""/>
            <p:cNvPicPr/>
            <p:nvPr/>
          </p:nvPicPr>
          <p:blipFill>
            <a:blip r:embed="rId3"/>
            <a:stretch/>
          </p:blipFill>
          <p:spPr>
            <a:xfrm>
              <a:off x="1060560" y="-1884240"/>
              <a:ext cx="7881840" cy="28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1119240" y="839880"/>
              <a:ext cx="77659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18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Содержимое 3"/>
          <p:cNvGrpSpPr/>
          <p:nvPr/>
        </p:nvGrpSpPr>
        <p:grpSpPr>
          <a:xfrm>
            <a:off x="554040" y="85680"/>
            <a:ext cx="8315280" cy="6480360"/>
            <a:chOff x="554040" y="85680"/>
            <a:chExt cx="8315280" cy="6480360"/>
          </a:xfrm>
        </p:grpSpPr>
        <p:pic>
          <p:nvPicPr>
            <p:cNvPr id="408" name="Содержимое 3" descr=""/>
            <p:cNvPicPr/>
            <p:nvPr/>
          </p:nvPicPr>
          <p:blipFill>
            <a:blip r:embed="rId1"/>
            <a:stretch/>
          </p:blipFill>
          <p:spPr>
            <a:xfrm>
              <a:off x="554040" y="85680"/>
              <a:ext cx="8315280" cy="648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1143000" y="647640"/>
              <a:ext cx="7142040" cy="531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72880" indent="-272880">
                <a:lnSpc>
                  <a:spcPct val="80000"/>
                </a:lnSpc>
                <a:spcBef>
                  <a:spcPts val="575"/>
                </a:spcBef>
                <a:buClr>
                  <a:srgbClr val="d34817"/>
                </a:buClr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mbria"/>
                </a:rPr>
                <a:t>   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80000"/>
                </a:lnSpc>
                <a:spcBef>
                  <a:spcPts val="575"/>
                </a:spcBef>
                <a:buClr>
                  <a:srgbClr val="d34817"/>
                </a:buClr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mbria"/>
                </a:rPr>
                <a:t>Предусмотрена обязанность работодателя  выдать в 3-х дневный срок акт о расследовании несчастного случая, не связанного с производством </a:t>
              </a:r>
              <a:r>
                <a:rPr b="0" lang="ru-RU" sz="2000" spc="-1" strike="noStrike">
                  <a:solidFill>
                    <a:srgbClr val="ff0000"/>
                  </a:solidFill>
                  <a:latin typeface="Cambria"/>
                </a:rPr>
                <a:t>(по требованию) </a:t>
              </a:r>
              <a:r>
                <a:rPr b="0" lang="ru-RU" sz="2000" spc="-1" strike="noStrike">
                  <a:solidFill>
                    <a:srgbClr val="000000"/>
                  </a:solidFill>
                  <a:latin typeface="Cambria"/>
                </a:rPr>
                <a:t>(п. 30)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80000"/>
                </a:lnSpc>
                <a:spcBef>
                  <a:spcPts val="575"/>
                </a:spcBef>
                <a:buClr>
                  <a:srgbClr val="d34817"/>
                </a:buClr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mbria"/>
                </a:rPr>
                <a:t>Определен порядок действий в случае </a:t>
              </a:r>
              <a:r>
                <a:rPr b="0" lang="ru-RU" sz="2000" spc="-1" strike="noStrike">
                  <a:solidFill>
                    <a:srgbClr val="ff0000"/>
                  </a:solidFill>
                  <a:latin typeface="Cambria"/>
                </a:rPr>
                <a:t>отказа  членов комиссии от подписания акта о расследовании</a:t>
              </a:r>
              <a:r>
                <a:rPr b="0" lang="ru-RU" sz="2000" spc="-1" strike="noStrike">
                  <a:solidFill>
                    <a:srgbClr val="000000"/>
                  </a:solidFill>
                  <a:latin typeface="Cambria"/>
                </a:rPr>
                <a:t> (акта формы Н-1) – проводится дополнительное расследование несчастного случая(п. 31)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80000"/>
                </a:lnSpc>
                <a:spcBef>
                  <a:spcPts val="575"/>
                </a:spcBef>
                <a:buClr>
                  <a:srgbClr val="d34817"/>
                </a:buClr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mbria"/>
                </a:rPr>
                <a:t>Установлен срок направления в ГИТ сообщения о последствиях несчастного случая, </a:t>
              </a:r>
              <a:r>
                <a:rPr b="0" lang="ru-RU" sz="2000" spc="-1" strike="noStrike">
                  <a:solidFill>
                    <a:srgbClr val="ff0000"/>
                  </a:solidFill>
                  <a:latin typeface="Cambria"/>
                </a:rPr>
                <a:t>в течение 10 календарных по окончанию периода болезни, при смертельном – в течение месяца по завершению расследования </a:t>
              </a:r>
              <a:r>
                <a:rPr b="0" lang="ru-RU" sz="2000" spc="-1" strike="noStrike">
                  <a:solidFill>
                    <a:srgbClr val="000000"/>
                  </a:solidFill>
                  <a:latin typeface="Cambria"/>
                </a:rPr>
                <a:t>(п. 33)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 algn="just">
                <a:lnSpc>
                  <a:spcPct val="80000"/>
                </a:lnSpc>
                <a:spcBef>
                  <a:spcPts val="575"/>
                </a:spcBef>
                <a:buClr>
                  <a:srgbClr val="d34817"/>
                </a:buClr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mbria"/>
                </a:rPr>
                <a:t>Установлены сведения, объективно свидетельствующие о нарушении порядка расследования, являющиеся основанием для дополнительного расследования в порядке ст. 229.3 ТК РФ (п. 36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0" name="Прямоугольник с двумя вырезанными противолежащими углами 4"/>
          <p:cNvGrpSpPr/>
          <p:nvPr/>
        </p:nvGrpSpPr>
        <p:grpSpPr>
          <a:xfrm>
            <a:off x="1852560" y="-6480"/>
            <a:ext cx="5724720" cy="920880"/>
            <a:chOff x="1852560" y="-6480"/>
            <a:chExt cx="5724720" cy="920880"/>
          </a:xfrm>
        </p:grpSpPr>
        <p:pic>
          <p:nvPicPr>
            <p:cNvPr id="411" name="Прямоугольник с двумя вырезанными противолежащими углами 4" descr=""/>
            <p:cNvPicPr/>
            <p:nvPr/>
          </p:nvPicPr>
          <p:blipFill>
            <a:blip r:embed="rId2"/>
            <a:stretch/>
          </p:blipFill>
          <p:spPr>
            <a:xfrm>
              <a:off x="1852560" y="-6480"/>
              <a:ext cx="572472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1968480" y="176040"/>
              <a:ext cx="549612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2400" spc="-1" strike="noStrike">
                  <a:solidFill>
                    <a:srgbClr val="ff0000"/>
                  </a:solidFill>
                  <a:latin typeface="Cambria"/>
                </a:rPr>
                <a:t>Приказ Минтруда РФ от 20.04.202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2400" spc="-1" strike="noStrike">
                  <a:solidFill>
                    <a:srgbClr val="ff0000"/>
                  </a:solidFill>
                  <a:latin typeface="Cambria"/>
                </a:rPr>
                <a:t> № </a:t>
              </a:r>
              <a:r>
                <a:rPr b="1" i="1" lang="ru-RU" sz="2400" spc="-1" strike="noStrike">
                  <a:solidFill>
                    <a:srgbClr val="ff0000"/>
                  </a:solidFill>
                  <a:latin typeface="Cambria"/>
                </a:rPr>
                <a:t>223н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3" name="Заголовок 5"/>
          <p:cNvGrpSpPr/>
          <p:nvPr/>
        </p:nvGrpSpPr>
        <p:grpSpPr>
          <a:xfrm>
            <a:off x="1060560" y="-1884240"/>
            <a:ext cx="7881840" cy="2871720"/>
            <a:chOff x="1060560" y="-1884240"/>
            <a:chExt cx="7881840" cy="2871720"/>
          </a:xfrm>
        </p:grpSpPr>
        <p:pic>
          <p:nvPicPr>
            <p:cNvPr id="414" name="Заголовок 5" descr=""/>
            <p:cNvPicPr/>
            <p:nvPr/>
          </p:nvPicPr>
          <p:blipFill>
            <a:blip r:embed="rId3"/>
            <a:stretch/>
          </p:blipFill>
          <p:spPr>
            <a:xfrm>
              <a:off x="1060560" y="-1884240"/>
              <a:ext cx="7881840" cy="28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1119240" y="839880"/>
              <a:ext cx="77659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18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б инициировании  работодателем профилактического визита в порядке ч. 10 ст. 52 ФЗ № 248-ФЗ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1280" y="1447920"/>
            <a:ext cx="820872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Руководителю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Государственной инспекции труда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в Самарской области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Панову А.С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443068, г. Самара, ул. Ново-Садовая, 106А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Уважаемый Александр Сергеевич!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В соответствии с частью 10  ст. 52 Федерального закона от 31.07.2020 № 248-ФЗ «О государственном контроле (надзоре) и муниципальном контроле в Российской Федерации» (далее – Федеральный закон № 248-ФЗ), просим Вас провести профилактический визит в _________________________по адресу____________________в целях консультирования и информирования о вступивших в силу с 01 сентября 2023 года новых нормативных актах, содержащих обязательные требования охраны труда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ФИО и подпись руководителя/дата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Исп. ФИО, тел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КОНСУЛЬТИРОВАНИЕ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914400" y="1447560"/>
            <a:ext cx="777240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+7(937)985-84-09  телефон горячей лини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Cambria"/>
                <a:hlinkClick r:id="rId1"/>
              </a:rPr>
              <a:t>https://git63.rostrud.gov.ru/inf/330313.html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официальный сайт ГИТ в Самарской област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263-54-72 приемная, заместитель руководителя  по ОТ Павлова Лариса Владимировн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cc9900"/>
                </a:solidFill>
                <a:uFillTx/>
                <a:latin typeface="Cambria"/>
                <a:hlinkClick r:id="rId2"/>
              </a:rPr>
              <a:t>pavlovalv@git63.rostrud.gov.ru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адрес электронной почты Павловой Л.В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Cambria"/>
                <a:hlinkClick r:id="rId3"/>
              </a:rPr>
              <a:t>git63@rostrud.</a:t>
            </a:r>
            <a:r>
              <a:rPr b="0" lang="en-US" sz="2600" spc="-1" strike="noStrike" u="sng">
                <a:solidFill>
                  <a:srgbClr val="cc9900"/>
                </a:solidFill>
                <a:uFillTx/>
                <a:latin typeface="Cambria"/>
                <a:hlinkClick r:id="rId4"/>
              </a:rPr>
              <a:t> gov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en-US" sz="2600" spc="-1" strike="noStrike" u="sng">
                <a:solidFill>
                  <a:srgbClr val="cc9900"/>
                </a:solidFill>
                <a:uFillTx/>
                <a:latin typeface="Cambria"/>
                <a:hlinkClick r:id="rId5"/>
              </a:rPr>
              <a:t>ru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адрес электронной почты ГИТ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личный прием по адресу Ново-Садовая, 106а,  в рабочие дни с 9-00 до 18-00, в пятницу с 9-00 до 16-45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68360" y="1484280"/>
            <a:ext cx="8424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Федеральный закон от 31.07.2020 № 248-ФЗ </a:t>
            </a: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«О государственном контроле (надзоре) и муниципальном контроле в Российской Федерации» (вступил в силу  с 1 июля 2021 года);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Часть 1 ст. 8 ФЗ № 248-ФЗ: При осуществлении государственного контроля (надзора), муниципального контроля </a:t>
            </a: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проведение профилактических мероприятий,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направленных на снижение риска причинения вреда (ущерба), </a:t>
            </a: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является приоритетным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по отношению к проведению контрольных (надзорных) мероприятий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Порядок осуществления государственного контроля (надзора)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0A947C5-26BB-4D90-8E16-F48483A8982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684000" y="404280"/>
            <a:ext cx="8064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Cambria"/>
              </a:rPr>
              <a:t>ПРАВИТЕЛЬСТВО РОССИЙСКОЙ ФЕДЕРАЦИ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Cambria"/>
              </a:rPr>
              <a:t>П О С Т А Н О В Л Е Н И Е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Cambria"/>
              </a:rPr>
              <a:t>от 21 июля 2021 года № 1230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Cambria"/>
              </a:rPr>
              <a:t>Москва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Об утверждении Положения о федеральном государственном контроле (надзоре) за соблюдением трудового законодательства и иных нормативных актов , содержащих нормы трудового права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Вступило в силу 23 июля 2021 г.,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действует до  31 декабря 2025 г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250920" y="119700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mbria"/>
              </a:rPr>
              <a:t>    </a:t>
            </a:r>
            <a:r>
              <a:rPr b="1" lang="ru-RU" sz="1600" spc="-1" strike="noStrike">
                <a:solidFill>
                  <a:srgbClr val="ff0000"/>
                </a:solidFill>
                <a:latin typeface="Cambria"/>
              </a:rPr>
              <a:t>ПОСТАНОВЛЕНИЕ ПРАВИТЕЛЬСТВА РОССИЙСКОЙ ФЕДЕРАЦИИ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mbria"/>
              </a:rPr>
              <a:t>от 10 марта 2022 г.   N 336 «ОБ ОСОБЕННОСТЯХ ОРГАНИЗАЦИИ И ОСУЩЕСТВЛЕНИЯ ГОСУДАРСТВЕННОГО КОНТРОЛЯ (НАДЗОРА), МУНИЦИПАЛЬНОГО КОНТРОЛЯ»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Cambria"/>
              </a:rPr>
              <a:t>До 2030 года </a:t>
            </a:r>
            <a:r>
              <a:rPr b="1" lang="ru-RU" sz="1900" spc="-1" strike="noStrike">
                <a:solidFill>
                  <a:srgbClr val="000000"/>
                </a:solidFill>
                <a:latin typeface="Cambria"/>
              </a:rPr>
              <a:t>в планы проведения плановых проверок,  включаются плановые проверки только в отношении объектов контроля, отнесенных к категориям чрезвычайно высокого </a:t>
            </a:r>
            <a:r>
              <a:rPr b="1" lang="ru-RU" sz="1900" spc="-1" strike="noStrike">
                <a:solidFill>
                  <a:srgbClr val="ff0000"/>
                </a:solidFill>
                <a:latin typeface="Cambria"/>
              </a:rPr>
              <a:t>и высокого риска,</a:t>
            </a:r>
            <a:r>
              <a:rPr b="1" lang="ru-RU" sz="1900" spc="-1" strike="noStrike">
                <a:solidFill>
                  <a:srgbClr val="000000"/>
                </a:solidFill>
                <a:latin typeface="Cambria"/>
              </a:rPr>
              <a:t> опасным производственным объектам II класса опасности, гидротехническим сооружениям II класса (кроме государственных и муниципальных учреждений дошкольного, общего и среднего образования); 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mbria"/>
              </a:rPr>
              <a:t>Контролируемое лицо вправе обратиться </a:t>
            </a:r>
            <a:r>
              <a:rPr b="1" lang="ru-RU" sz="1900" spc="-1" strike="noStrike">
                <a:solidFill>
                  <a:srgbClr val="ff0000"/>
                </a:solidFill>
                <a:latin typeface="Cambria"/>
              </a:rPr>
              <a:t>о проведении профилактического визита вместо планового мероприятия.</a:t>
            </a:r>
            <a:r>
              <a:rPr b="1" lang="ru-RU" sz="1900" spc="-1" strike="noStrike">
                <a:solidFill>
                  <a:srgbClr val="000000"/>
                </a:solidFill>
                <a:latin typeface="Cambria"/>
              </a:rPr>
              <a:t> В случае если профилактический визит проведен в течение 3 месяцев до даты проведения планового контрольного (надзорного) мероприятия, контрольный (надзорный) орган вправе принять решение об исключении планового контрольного (надзорного) мероприятия из плана плановых контрольных (надзорных) мероприятий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Особенности  осуществления государственного контроля (надзора)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137A220-504D-4A2F-A35F-C041CB5D870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Особенности  осуществления государственного контроля (надзора)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560"/>
            <a:ext cx="77724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соответствии с частью 1 статьи 53 Федерального закона от 31 июля 2020 г. N 248-ФЗ "О государственном контроле (надзоре) и муниципальном контроле в Российской Федерации« пунктом 3 Положения о федеральном государственном контроле (надзоре) за соблюдением трудового законодательства и иных нормативных правовых актов, содержащих нормы трудового права, утвержденного постановлением Правительства Российской Федерации от 21 июля 2021 года N 1230 </a:t>
            </a:r>
            <a:r>
              <a:rPr b="1" i="1" lang="ru-RU" sz="2000" spc="-1" strike="noStrike">
                <a:solidFill>
                  <a:srgbClr val="ff0000"/>
                </a:solidFill>
                <a:latin typeface="Cambria"/>
              </a:rPr>
              <a:t>приказом Роструда от 01.02.2022 № 20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утверждены  формы проверочных листов (списка контрольных вопросов) для осуществления федерального государственного контроля (надзора) за соблюдением трудового законодательства и иных нормативных правовых актов 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(всего 79 приложений) 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Особенности  осуществления государственного контроля (надзора) 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Основания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для проведения </a:t>
            </a: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внеплановых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проверок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без согласования</a:t>
            </a: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 органами прокуратуры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о поручению Президента Российской Федерации;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о поручению Председателя Правительства Российской Федерации или  Заместителя Председателя Правительства Российской Федерации;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о требованию прокурора в рамках надзора за исполнением законов, соблюдением прав и свобод человека и гражданина по поступившим в органы прокуратуры материалам и обращениям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68360" y="1484280"/>
            <a:ext cx="8424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180000" indent="-18000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Основания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для проведения </a:t>
            </a: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внеплановых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проверок  </a:t>
            </a: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при условии согласования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 органами прокуратуры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80000" indent="-18000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ри непосредственной угрозе причинения вреда жизни и </a:t>
            </a: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тяжкого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вреда здоровью граждан, по фактам причинения вреда жизни и </a:t>
            </a: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тяжкого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вреда здоровью граждан;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180000" indent="-18000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в связи </a:t>
            </a: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с истечением срока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исполнения предписания;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180000" indent="-18000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в случае поступления от работников обращений (информации), содержащих </a:t>
            </a: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сведения о массовых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(более 10 процентов среднесписочной численности или более 10 человек) </a:t>
            </a: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нарушениях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работодателями их трудовых прав, связанных с полной или частичной невыплатой заработной платы свыше одного месяца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180000" indent="-18000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ри выявлении </a:t>
            </a: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индикаторов риска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арушения обязательных требований;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180000" indent="-18000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180000" indent="-18000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180000" indent="-18000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180000" indent="-18000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о поручению Председателя Правительства Российской Федерации, принятому после вступления в силу настоящего постановления;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180000" indent="-18000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о поручению Заместителя Председателя Правительства Российской Федерации, принятому после вступления в силу настоящего постановления и согласованному с Заместителем Председателя Правительства Российской Федерации - Руководителем Аппарата Правительства Российской Федерации;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180000" indent="-18000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о требованию прокурора в рамках надзора за исполнением законов, соблюдением прав и свобод человека и гражданина по поступившим в органы прокуратуры материалам и обращениям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180000" indent="-18000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180000" indent="-18000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180000" indent="-1800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Особенности  осуществления государственного контроля (надзора)  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D214A4C-2956-4DB7-98D3-AA13FB7C1E0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1:41:02Z</dcterms:created>
  <dc:creator>Лариса</dc:creator>
  <dc:description/>
  <dc:language>en-US</dc:language>
  <cp:lastModifiedBy>PavlovaLV</cp:lastModifiedBy>
  <dcterms:modified xsi:type="dcterms:W3CDTF">2023-11-21T09:21:54Z</dcterms:modified>
  <cp:revision>762</cp:revision>
  <dc:subject/>
  <dc:title>Доклад заместителя руководителя  (по охране труда)   Государственной инспекции труда  в Самарской области  «Снижение уровня производственного травматизма и профессиональной заболеваемости – одна из основных задач модернизации системы управления охраной труда»</dc:title>
</cp:coreProperties>
</file>